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14504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D1BE709-C9DB-4586-A75F-64053DE780C0}" type="slidenum"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from “Occlusion Culling with Hierarchical Depth Maps” or something like that. Ned Greene and Michael K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166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166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82480" y="914400"/>
            <a:ext cx="6607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3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1680" y="334800"/>
            <a:ext cx="7169040" cy="3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 N T R O D U C T I O N     T O     C O M P U T E R     G R A P H I C 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8800" y="25092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8800" y="75420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280" y="9677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9067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480" y="3352320"/>
            <a:ext cx="660744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65320" y="5028840"/>
            <a:ext cx="5441760" cy="3241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y and modern practi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4864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324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23520" y="7543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66680" y="7543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934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2480" y="1574280"/>
            <a:ext cx="673272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efini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set of 3-D objects and a view specification (camera), determine which lines or surfaces of the object are 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already seen a VSD step…computing the smallest non-negative t value along a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might objects not be visible? occlusion vs. cl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is one object at a time while occlusion is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so called Hidden Surface Removal (H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523224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 not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blem first posed for wireframe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ution called “hidden-line remov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lines themselves don’t hide lines. Lines must be edges of opaque surfaces that hide oth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echniques show hidden line segments as dotted or dashe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2767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9718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90920" y="3124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6576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5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5053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676520" y="44956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62320" y="4114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1240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590560" y="4267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80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82880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6272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64832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64832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48320" y="8229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334120" y="82292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4120" y="7238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7086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72388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56236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82480" y="1905120"/>
            <a:ext cx="6607440" cy="703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ree classes of algorithm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” visibility testing: only trivial reject – does not give final answ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back-face culling, canonical view volume clipping, spatial sub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e to feed results to algorithms mentioned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precision – resolve visibility at discrete points i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ple model, then resolve visibility – i.e., figure out which objects it makes sense to compar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tracing, or Z-buffer and scan-line depth buffers (both in hardwar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precision – resolve for all possible view directions from a given ey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rrespective of view direction or sampling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lve visibility exactly, then sample th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poly’s clipping poly’s, 3-D depth sort, BSP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71899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162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riteria to watch for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rious differences amo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sort of geomet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support transparent object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ti-alia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uch of scene has to be consid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-tracing usually able to consider less tha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0">
              <a:spcBef>
                <a:spcPts val="71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ing via clever pre-processing (e.g., spatial binn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preprocess the mod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easily handle moving obj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ance: space-time complexity. With large models, eve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o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? # total objects, # visible objects, # pixels…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some combination, i.e., # total objects x # pix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pelines first use some conservative algorithms, then one of image-precision or object-precis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51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88416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31040" y="304812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73160" y="2743200"/>
            <a:ext cx="873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73440" y="3809880"/>
            <a:ext cx="140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icit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88452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rcRect l="82653" t="49882" r="10728" b="43084"/>
          <a:stretch/>
        </p:blipFill>
        <p:spPr>
          <a:xfrm>
            <a:off x="762120" y="3124080"/>
            <a:ext cx="761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5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Exploit coheren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gree to which parts of an environment exhibit logical similarities. Make good guesses! Reuse previous calcul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: except at object boundaries, adjacent pixels tend to be from the sam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: objects aren’t point clouds – they tend to be 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sible set: set of visible objects doesn’t change much as viewpoint moves incrementally (largely unexplo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bjects don’t move that much frame-to-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 objects tend to stay constant while relatively fewer foreground objects move (games take advantage of thi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end to be clustered together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 will take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 Database Culling Techniqu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607440" cy="731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servative” visibility test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ugely important to minimize load on pipeline by culling detail that can’t be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 visibility is the most literal application of this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only see a small portion of the model from any particular viewpoint, particularly for bi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opics We’ll Cov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, Bounding Volume Hierarchies: Spatially dependent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 Culling: Objects occlude parts of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ulling: Objects block othe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5146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nts and Bounding Volu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und each complex object with a simpler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of simpler volumes: sphere,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y &amp; Kajiya SIGGRAPH ’86 uses polyhe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unding volume isn’t visible, neither is object inside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put multiple objects into one volume: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ray-tracing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 reject: check ray against bounding volum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er reject: check group of rays (frustum) against bounding volume of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ditional hardware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ivial reject large numbers of triangles at a time during clipping, don’t have to draw ANY of its tri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if bounding box of tessellated sphere is not visible, don’t have to draw all its triang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5627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720" y="5638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00880" y="55245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876920" y="5562720"/>
            <a:ext cx="76176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5562720"/>
            <a:ext cx="876600" cy="1342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9760" y="53341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556272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09720" y="55627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360" y="556272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5562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5627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6095880"/>
            <a:ext cx="1143000" cy="838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6248520"/>
            <a:ext cx="1143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80720" y="6095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23720" y="6095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980720" y="6933960"/>
            <a:ext cx="22860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248520"/>
            <a:ext cx="1143000" cy="838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9404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10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165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13800" y="6469200"/>
            <a:ext cx="788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bitr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2840" y="675468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 frustum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ndle of 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1000" y="65689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x of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6388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102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technique for organizing entir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methods of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peatedly group bounding volumes of nearby objects together until entire scene is bou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some form of spatial s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 use original scene graph: bounding volumes at nodes = union of child bounding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mak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useful if scene graph is already spatially coherent (otherwise boxes will not be t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632448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63244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771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80010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0960" y="647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4120" y="784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4840" y="647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632448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47712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800100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8760" y="617220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840" y="67816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4840" y="7543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3800" y="7543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6800" y="7467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95320" y="64771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5000" y="6477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64771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7162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85978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ing Bo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in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if ray intersects parent, check th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if root not completely clipped, check the children recur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’re at a leaf, pass its polygons to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97180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31240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4648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09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1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484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97180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12408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464832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8760" y="28195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840" y="3429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380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06800" y="4235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95320" y="3124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15000" y="3124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1240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6120" y="5257800"/>
            <a:ext cx="471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check root bbox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check bbox A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heck bbox B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 check bbox C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 check C; h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. all done; C was clos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48006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733560" y="380952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nother way to organize whol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-down construction: divide and conqu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space into cells, place objects i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er places polygon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laces bounding volume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038920" cy="3394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29040" y="82296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xample of spatial sub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“Pipeline”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roduces visible samples from model, samples convolved  w/filter to form pixe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9960" y="2819520"/>
            <a:ext cx="19429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traver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accumulate C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patially organ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1600200" cy="380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048120"/>
            <a:ext cx="1600200" cy="838080"/>
          </a:xfrm>
          <a:prstGeom prst="roundRect">
            <a:avLst>
              <a:gd name="adj" fmla="val 3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4495680"/>
            <a:ext cx="2514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 over obj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 with each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ep track of closest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the 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629400"/>
            <a:ext cx="1523880" cy="457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662940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6553080"/>
            <a:ext cx="1371600" cy="685800"/>
          </a:xfrm>
          <a:prstGeom prst="roundRect">
            <a:avLst>
              <a:gd name="adj" fmla="val 46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76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processing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419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osest 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334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desired s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ome (u, v) on film plan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6858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6858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943600"/>
            <a:ext cx="2210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secondary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257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343400" y="5562360"/>
            <a:ext cx="457200" cy="36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for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rays “walk” through the cells, only checking objects in thos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rt in cell of eye point; skip empty cells; stop walking when we find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up: walk bundle of rays through the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clip groups of polygons at a time. Only cells impinging on the view volume have their content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380988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 R only needs to be inters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bjects A, B, and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3505320" cy="2081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611760" y="5867280"/>
            <a:ext cx="1160640" cy="119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7816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ethods of Spatial Subdivi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ula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one approach, the environment is partitioned into a regular grid of equal-sized rectangular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 adaptive: doesn’t account for varying object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divided into 8 cubes, and objects are sorted by which cube they belong to. Recurse by subdividing each cube until # objs/cube is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quivalent: quad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erarc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sitive to scene density – more work for a ra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s (Binary Space Partitio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recursively divided by arbitrary split planes; objects sorted by which side of the plane they’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n more sensitive to scene, even harder for a ray to travers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cover more later on in the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4960" y="70722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4435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19880" y="7300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293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7148520"/>
            <a:ext cx="380880" cy="2286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7148520"/>
            <a:ext cx="152280" cy="3049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7162920"/>
            <a:ext cx="304560" cy="228600"/>
          </a:xfrm>
          <a:prstGeom prst="pentag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8320" y="7419960"/>
            <a:ext cx="7632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rcRect l="0" t="0" r="0" b="11112"/>
          <a:stretch/>
        </p:blipFill>
        <p:spPr>
          <a:xfrm>
            <a:off x="2286000" y="3200400"/>
            <a:ext cx="2895480" cy="1528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334120" y="6019920"/>
            <a:ext cx="1066680" cy="71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Global Scene Organiz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82480" y="1676160"/>
            <a:ext cx="6607440" cy="7467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ummar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techniques best: combine spatial subdivision and bounding volume scenegraph hierar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-off upfront investment in constructing object database for savings during every subsequent rendering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uct only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s up every fr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gets speedup for every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ware pipeline draws fewer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zy” or on-the-fly subdivision – only when cell touched – could be better than a-priori subdivis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good for (largely) static scenes, really bad for scenes with lots of mov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ay-Tracing News: lots of algorithms, deep thoughts from hard-core “raytracin’ dudes,” published at random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3333cc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ttp://www.acm.org/tog/resources/RTNews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Havran, J. Prikryl, and W. Purgathofer: "Statistical Comparison of Ray-Shooting Efficiency Scheme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s a pretty good analysis and comparison of different spatial subdivis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Clipping Against View Volum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hedra transformed to the normalized world are clipped against the bounds of the canonical view volume, a polygon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clipped an edg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 calculations are trivial because of the normalized planes of the canonical view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vertices are created where objects are cl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bounding volumes to trivially reject groups of objects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doesn’t need to clip polygons against the view volume: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6858000" cy="2482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0" idx="1"/>
            <a:endCxn id="330" idx="1"/>
          </p:cNvCxnSpPr>
          <p:nvPr/>
        </p:nvCxnSpPr>
        <p:spPr>
          <a:xfrm flipH="1" flipV="1" rot="10800000">
            <a:off x="761760" y="558360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334" name=""/>
          <p:cNvCxnSpPr/>
          <p:nvPr/>
        </p:nvCxnSpPr>
        <p:spPr>
          <a:xfrm>
            <a:off x="151920" y="8457840"/>
            <a:ext cx="305640" cy="2293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335" name=""/>
          <p:cNvCxnSpPr>
            <a:endCxn id="330" idx="1"/>
          </p:cNvCxnSpPr>
          <p:nvPr/>
        </p:nvCxnSpPr>
        <p:spPr>
          <a:xfrm flipH="1" flipV="1" rot="5400000">
            <a:off x="163080" y="5954040"/>
            <a:ext cx="969120" cy="229320"/>
          </a:xfrm>
          <a:prstGeom prst="bentConnector2">
            <a:avLst/>
          </a:prstGeom>
          <a:ln w="0">
            <a:noFill/>
          </a:ln>
        </p:spPr>
      </p:cxnSp>
      <p:sp>
        <p:nvSpPr>
          <p:cNvPr id="336" name=""/>
          <p:cNvSpPr/>
          <p:nvPr/>
        </p:nvSpPr>
        <p:spPr>
          <a:xfrm>
            <a:off x="2362320" y="5257800"/>
            <a:ext cx="304560" cy="106668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cubicBezTo>
                  <a:pt x="36" y="24"/>
                  <a:pt x="72" y="48"/>
                  <a:pt x="96" y="144"/>
                </a:cubicBezTo>
                <a:cubicBezTo>
                  <a:pt x="120" y="240"/>
                  <a:pt x="120" y="480"/>
                  <a:pt x="144" y="576"/>
                </a:cubicBezTo>
                <a:cubicBezTo>
                  <a:pt x="168" y="672"/>
                  <a:pt x="204" y="696"/>
                  <a:pt x="24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of Sight Interpreta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roach assumes objects defined as closed polyhedra, with eye point always outside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ward 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N) of polygon to test for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f S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projector from the center of projection (COP) to any point P on the polygon. (For parallel projections LOS = DOP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rection of proj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rmal is facing in same direction as LOS, it’s a back 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0, then polygon is invisible – 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&lt; 0, then polygon may b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render one lone polyhedron, you need back-face culling as VS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90720" y="6172200"/>
            <a:ext cx="2995560" cy="1798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19720" y="6197760"/>
            <a:ext cx="2743200" cy="1726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238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lane Half-Spaces Interpretation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lane can be defined by a normal N and any point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n the pla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satisfied b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D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write as (N • P) + D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k another point,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then we can say N •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ice that –N •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constant; let’s call it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ve for D using any point on the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divides all points into two half-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= 0, P is on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gt; 0, P is in posi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lt; 0,  P is in nega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fine polyhedron as intersection of pla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e =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faces away for eye points in the negative half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lide: if (N • Eye) + D&lt; 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 slide: if (N • LOS) &gt;=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P – Eye; D = -(N • P): they’re equivalen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er than recalculating LOS per-polygon (3 subs, 3 mults, 3 adds vs. 3 mults and 4 ad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ow we do it using immediate-mode API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have a triangle, no sense of “inside-outsi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triangle is derived from tessellating surface of solid object. Therefore, as you tessellate, specify the vertices with a particular winding with respect to an outward normal (specifically, you used a counter-clock-wise winding for your Shapes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GL automatically computes an outward normal from the cross product of two consecutive screen-space edges and culls back-facing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ust checks the sign of the resulting z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590920" y="434304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904760" y="434340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828440" y="464832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343040" y="441972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334120" y="533376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029200" y="44193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1055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2480" y="1980720"/>
            <a:ext cx="660744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T preserves “in front of” relationships, straight lines and planes, and performs perspective foreshor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53341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perspective-projection view volume with c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33440" y="815328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spective Trans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normalized parallel-proj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. Note that cube is distorted (perspective foreshorten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member PT transforms z from [-1,0] to [0,1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9810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3809880" cy="2130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286000" y="5943600"/>
            <a:ext cx="3200400" cy="2011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55880" y="3581280"/>
            <a:ext cx="2127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61722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6172200"/>
            <a:ext cx="99036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,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57400" y="769140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-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312408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4800600"/>
            <a:ext cx="99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4724280"/>
            <a:ext cx="990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572000"/>
            <a:ext cx="990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k,-k,-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7238880"/>
            <a:ext cx="228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after PT is simply along planes defin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befor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and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calculation to determine if they are on same projector (a lot of work, effectively ray-trac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on same projector, then z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after th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 and 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         , and       must           for one of those points to obscure the other, i.e., to be on the same projector (not much work to perform necessary comparis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’, 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equal the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jection after PT is just discard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520" y="6858000"/>
            <a:ext cx="6705360" cy="1998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843440" y="439092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6760" y="4381560"/>
                <a:ext cx="417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48120" y="2705040"/>
                <a:ext cx="292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524560" y="2714760"/>
                <a:ext cx="291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974960" y="4648320"/>
                <a:ext cx="377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762280" y="4686480"/>
                <a:ext cx="539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800520" y="468648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660920" y="4695840"/>
                <a:ext cx="520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6134040" y="71247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view of CRT Buff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 the phosphor display of the CRT monitor decays very quickly. Screen must be frequently refreshed (at least 60 times/second) to maintain a constant image without flick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is refreshed one scan line at a time from pixel information held i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re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buffers can be used to store other pixel information. For example, we will us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whi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(depth of points on a polygon) are stored to do V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8724" t="0" r="0" b="0"/>
          <a:stretch/>
        </p:blipFill>
        <p:spPr>
          <a:xfrm>
            <a:off x="2438280" y="579132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7848720"/>
            <a:ext cx="220968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hown as floats, though typically 24bit or 32bit 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31520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7315200"/>
            <a:ext cx="15242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 with pix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rcRect l="-7446" t="0" r="71277" b="0"/>
          <a:stretch/>
        </p:blipFill>
        <p:spPr>
          <a:xfrm>
            <a:off x="-76320" y="57913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7010280" cy="7391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Raytracing could work…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and implicit surface model definition go well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many of our existing models and modeling apps are still based on polygon meshes. How do we render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raytrace polyg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tter solution: traditional polygons-to-pixels h/w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iangle intersection is not too h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ray-intersect-plane using the plane of th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eck if resulting point is inside the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methods using Plücker coordinates or barycentric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ücker coordinates are like homogeneous coordinates only in 6 dimensions instead of 4. The extra dimensions give an understanding of the winding of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rycentric coordinates uses the areas of triangles created with the ray and vertices to determine if they inters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Polygon intersection is simil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compose into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18216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jpa,avd                                 November 9, 2000                                VSD 3/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6920" y="698508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Depth Comparison using a </a:t>
            </a:r>
            <a:br>
              <a:rPr sz="3600"/>
            </a:b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–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e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Z-buffer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algorith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is initialized to background value (furthest plane of view volume =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each object is travers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of all its sample points are compar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n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cation in Z-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uld be determined by plugg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the plane equation for polyg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reality, calcul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vertices and interpolate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w point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less than previous one (i.e., closer to eye), i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s placed in z-buffer and its color placed in frame buffer at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 previous z-value and frame buffer color are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store depth as integers or floats or fixed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.e.for 8-bit (1 byte) integer z-buffer, set 0.0 -&gt;0 and 1.0 -&gt;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representation has its advantages in terms of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-sorting only avoids shading interpolation – not wort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two “buff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nsity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our familiar RGB pixel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background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(“Z”)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depth of scene at each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far depth = 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scan-converted in arbitrary order. When pixels overlap, use Z-buffer to decide which polygon “gets” tha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8381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ove: example using integer Z-buffer with near = 0, far =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90720" y="4800600"/>
          <a:ext cx="1752480" cy="160020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9907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200400" y="4800600"/>
          <a:ext cx="1752480" cy="1419120"/>
        </p:xfrm>
        <a:graphic>
          <a:graphicData uri="http://schemas.openxmlformats.org/drawingml/2006/table">
            <a:tbl>
              <a:tblPr/>
              <a:tblGrid>
                <a:gridCol w="219240"/>
                <a:gridCol w="218880"/>
                <a:gridCol w="219240"/>
                <a:gridCol w="218880"/>
                <a:gridCol w="219240"/>
                <a:gridCol w="276120"/>
                <a:gridCol w="162000"/>
                <a:gridCol w="21888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105520" y="48006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79144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320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1055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200400" y="661824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924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818440" y="72388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3200" y="731520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15200" cy="749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very polygon that we can’t reject triv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ind a piece (one or more pixels) of a polygon that is closer to the front, we paint over whatever was behi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Buff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_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ixel in polygon’s proje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=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Z-value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Z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x, y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* New point is closer to front of view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color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Appl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ttp://www.cs.technion.ac.il/~cs234325/Homepage/Applets/applets/zbuffer/GermanApple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1752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5000"/>
          </a:bodyPr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o how do we compute this efficiently?</a:t>
            </a: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swer is simple: do it incrementall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member scan conversion/polygon filling? As we move along Y-axis, track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sition where each edge intersects scan-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same thing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using “remainder” calculation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-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l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we ha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each edge, can incrementally calcul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we scan Did something similar with calculating color per pixel... (Gouraud shad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71640" y="4549680"/>
            <a:ext cx="6324480" cy="2752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Pro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lends itself well to hardware implementations: 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d by all graphics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do not have to be compared in any particular order: no presorting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ecessary, big 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consider one polyg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even though occlusion is a global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ute force, but it is fa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can be stored w/ an image; allows you to correctly composite multiple images (easy!) w/o having to merge models (har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incremental addition to a complex s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VSD algorithms could produce a Z-buffer fo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be used for non-polygonal surfaces, CSGs (intersect, union, difference),           and any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=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070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C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recision problem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erspective foreshorten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a compression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is caused by perspective foreshortening, which map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values going from 16-24 or even 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hat are far away from the camera end up having smaller Z-values that are very close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information loses precision rapidly, which g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ordering bugs (artifacts) for distant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-planar polygons (e.g., shadows, reflections) exhibit “z-fighting” – you need to offset the further polygon slightly (can’t have co-planar, yet intersecting polygons in n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oating-point values won’t completely cur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an’t do anti-alias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knowing all polygons involved in a given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ted A-buffer algorithm used for anti-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648320" y="2362320"/>
                <a:ext cx="761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4800600" cy="1724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1447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6320" y="62485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Painter’s Algorithm – 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better way to resolve visibility exactl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drawing order, each poly overwriting the previous ones, that guarantees correct visibility at any pixe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ategy is to work back to front; find a way to sort polygons by depth (z), then draw them in tha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a rough sort of the polygons by the smallest (farthest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coordinate in each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 the most distant polygon first, then work forward towards the viewpoint (“painters’ algorithm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either do a complete sort and then scan-convert, or we can paint as we go – see 3D depth-sort algorithm by Newell, Newell, and S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ircraft carrier landing in the 1969 GE movie was done using painter’s al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2286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–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2480" y="1828440"/>
            <a:ext cx="6607440" cy="579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4000"/>
          </a:bodyPr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Wylie, Romney, Evans and Erdahl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77240" indent="-298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horizontal scan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all intersections with edges of all polygons (ignore horizontal boundar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intersections by increasing X and store in Edge T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ach intersection on scan-l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ntersected is left edg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nter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in-code of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if polygon is visible, and if so use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(from Polygon Table) up to nex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s a right 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eav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which polygon is visible to right of e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use its color up to next 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666880" y="2457360"/>
            <a:ext cx="2743200" cy="13795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62120" y="7516800"/>
            <a:ext cx="6553080" cy="15508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74674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1680" y="7467480"/>
            <a:ext cx="222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Edge Tabl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ization of single polygon scan conversion, with IN flags fo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transparency and anti-aliasing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algorithm: use single scan-line z-buffer to determine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polygons by scan line like this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ach scan line to a single-line Z-buffer; output colors, then clear the buffer and re-use for the next sca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ves space, but loses good transparency, anti-aliasing 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tty mu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828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-Precision Algorithm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ly first approach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berts ’63 - hidden line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ach edge with every object - eliminate invisible edges or parts of ed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ity: worse tha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ince each object must be compared with all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milar approach for hidden su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 is clipped by the projections of all other polygons in front of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isible surfaces are eliminated and visible sub-polygons are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, ugly special cases, polygon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0">
              <a:spcBef>
                <a:spcPts val="6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209680" y="64008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t there’s a faster wa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polygons is a re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typical mesh representation, there are a lot of triangles, and each is an object that has to be considered in our intersection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reduce the number of intersection tests with other VSD algorithms, but only to some ext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itional hardware polygon pipeline is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the very efficient Z-buffer one-polygon-at-a-time Visible Surface Determina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an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terpolation) rule (still same lighting equation as ray-tracing) to calculate most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7189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Newell, Newell, and Sancha, based on work by Schumacher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errors/ambiguities of Z-s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mmary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Initially, sort by smallest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Resolve ambigu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) Compare X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b) Compare Y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) Is P entirely on one side of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) Is Q entirely on one side of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) Compare X-Y projections (Polygon Inters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f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ap or split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Scan convert back to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5146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6476760" cy="1623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enough for simpl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irly intu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nsparent objects – something z-buffering sometimes fail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s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 for even moderately complex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 to implement and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ts of special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6095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500"/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Fuchs, Kedem, and Naylor, based on work by Schumacher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vides spatial subdivision and dra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and conqu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splay any polygon correctly, display all polygons on “far” (relative to viewpoint) side of polygon, then that polygon, then all polygons on polygon’s “near” sid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how to display polygons on one side correctly? Choose one polygon and process it recursively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s off view-independent preprocessing step (extra time and space) for low run-time overhead each time view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 algn="just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5867640" cy="2232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85800" y="25146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view-independent step once each time scene cha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ursively subdivide environment into a hierarchy of half-spaces by dividing polygons in a half-space by the plane of a selected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 a BSP tree representing thi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selected polygon is the root of a sub-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6000" y="5041800"/>
            <a:ext cx="4114800" cy="3492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893680" y="85345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0: Initial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295280" y="1914480"/>
            <a:ext cx="5562720" cy="29275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57400" y="4876920"/>
            <a:ext cx="63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1: Choose any polygon (e.g., polygon 3) and subdivid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its plane, splitting polygons when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5867640" cy="2895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6840" y="86835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2: Process front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95880" cy="2830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90720" y="5487840"/>
            <a:ext cx="5715000" cy="286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92760" y="495288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3: Process back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56200" y="8534520"/>
            <a:ext cx="48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4: An alternative BSP tree with polygon 5 at the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5/5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4952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BSP_displayTree(BSP_tree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 is not 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iewer is in front of 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ignore next line if back-face culling desired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ct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applet : http://symbolcraft.com/graphics/bs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1447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28600" y="1523880"/>
            <a:ext cx="38098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 view-dependent step for each viewpoint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 can be visited in back-to-front order. The far side of a node’s polygon is the side that the viewpoint is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fast! Quake III uses this for occlusion culling and to speed up intersec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2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76201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10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rtal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oor spaces are mostly rooms with door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draw the geometry in the next room if the door is clo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re is a portal (open door or hallway) only draw geometry visible through the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useful as a pre-computation step – geometry visible through a portal remains constant - not too good for outdoor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371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8229600"/>
            <a:ext cx="6172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Courtesy: David P. Luebke and Chris Georges, “Simple, Fast Evaluation of Potentially Visible Sets”  htt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//www.cs.virginia.edu/~luebke/publications/porta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52280" y="4618080"/>
            <a:ext cx="3962520" cy="31719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353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2480" y="53352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7772400" cy="769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Occlusion Culling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big object fills a good portion of the screen, don’t draw geometry that it cover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new graphics cards have support for parts of th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a list of all objects potentially visible in the frustum (per polygon or per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pair of objects i and j, if i occludes j (i.e. i lies in j’s shadow volume) remov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rain can be conservatively clipped by clipping against projection of frustum against terrain projected onto ground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! Lots of ways to make this fas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org, S., and S. Teller, "Real-Time Occlusion Culling for Models with Large Occluders",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97 Symposium on Interactive 3D 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masutra overview of Occlusion Culling algos: http://www.gamasutra.com/features/19991109/moller_haines_0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d for indoor scenes with lots of smal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05800" y="4724280"/>
            <a:ext cx="2656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C – algorithm ignores b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ometry behind the h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4360" y="4724280"/>
            <a:ext cx="3060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OC – lots of geometry  draw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is not seen (drawn in b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172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Traditional Hardware Pipeline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2480" y="1752480"/>
            <a:ext cx="6607440" cy="718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lygonal rendering w/ Z-buff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pproximate actu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global illumination approximates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 approximates lighting of each sample point; it’s fast, and it looks good enough for many purposes, e.g., interactive CAD, Sci-Viz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d on calculation and comparison of z (depth) values per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ch faster than solving many implicit surface equations per pixel if doing supersampl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.B. Simplified from actual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o texture maps, anti-aliasing, transpar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hardware; rest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33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November 10, 2005                               VSD 5/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8120" y="7162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1080" y="8610480"/>
            <a:ext cx="823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69613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ardware Scan Conversion pipelin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840" y="9220320"/>
            <a:ext cx="6989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vd                                  November 5, 2002                                VSD 5/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              November 10, 2005                               VSD 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rsa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or tra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CT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ano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igh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o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-buf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po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Gourau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nor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h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9436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ixel of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743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ing: Geometry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Coordinates (floating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743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ndering Pixe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Coordinates (inte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competito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are far faster, but produce images of inferior qual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render in real-time, raytracing only in b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has raytracing pipeline traditionally been much slower than polygon pipel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over more samples pe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(solving implicit surface equation) harder than 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/w drawing the many triangles in a tessellated sphere faster than raytracing a single sphere object that projects onto multiple pixel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complexity for polygon pipeline tends not to explode with finer tessellation (unlike other algorith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-of-polygo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#-of-pixels/polygon    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ed raytracing is still too expensive for real-time applications (for now).” - a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95960" y="7201080"/>
                <a:ext cx="2286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Un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t Hanrahan and Seth Teller: “raytracing WILL be compet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have to consider every object in the view frustum, occlud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s in raytracing pipelines can examine the scene front-to-back and stop at the first cell where there is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# polygons in view frustum gets big enough, raytracing becomes the faster of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big is “big enough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01 paper at Eurographics—Wald &amp; Slusallek, “Interactive Rendering with Coherent Ray Tracing,” in Eurographics 2001—demonstrates interactive frame rates at 2.5 M polygons from a raytracer which outperforms most polygon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7238880"/>
            <a:ext cx="1357560" cy="1409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907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86400" y="7238880"/>
            <a:ext cx="135720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6480" y="8661240"/>
            <a:ext cx="2102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s from the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802880"/>
            <a:ext cx="6858000" cy="7340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final assessmen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we comparing, anyway? One sample/pixel? How much tessel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ipelines always produce different imag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factor: “acceptable” spe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graphics processors are doubling speed every 6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-purpose processors (which raytracers and the front end of polygon pipelines depend on) are doubling in speed every 18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s never as complex as we’d lik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once models get huge, other issues surface; i.e., not enough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6: Pharr &amp; Hanrahan – paper                      dedicated to handling models far bigger than                     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8: P &amp; H &amp; others – 2 billion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software (Large Model Viewing) becoming                       a standard API on top of a rendering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use for lots of research in meshes that change                complexity depending on distance (level-of-detail) or       according to the surface complexity (adaptive mes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balance: both will be usefu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70680" y="59436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22:30:07Z</dcterms:created>
  <dc:creator>Brendon R. Shaw</dc:creator>
  <dc:description/>
  <dc:language>en-US</dc:language>
  <cp:lastModifiedBy>Yee Cheng Chin</cp:lastModifiedBy>
  <dcterms:modified xsi:type="dcterms:W3CDTF">2005-11-10T13:55:33Z</dcterms:modified>
  <cp:revision>212</cp:revision>
  <dc:subject/>
  <dc:title>PowerPoint Presentation</dc:title>
</cp:coreProperties>
</file>