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4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63244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N T R O D U C T I O N     T O     C O M P U T E R     G R A P H I C 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380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2D Clipping          1/15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ges 78 -81,110-1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1880" y="5892840"/>
            <a:ext cx="251460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9760" y="2362320"/>
            <a:ext cx="40384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September 29, 2005                     2D Clipping          10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erator is just the directed distance to an edge; sign corresponds to 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ominator is just the horizontal or vertical projection of the line, 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sign determines PE or PL for a given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 is constant of proportionality: “how far over” fro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tersection is relative to 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lculations for Parametric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lipping for Upright Clip Rect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September 29, 2005                     2D Clipping          11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utherland-Hodgman Polyg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l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39625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12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parametric line formul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(t) =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(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fou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for the four clip edges, then decide which form true intersections and calculat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those only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ny poi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 baseline="-5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 ed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yrus-Beck/Liang-Bars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Parametric Line Clipping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5553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13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we can solve for the value of t at the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ction o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the edge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[P(t)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substitute for P(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[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t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, group terms and distribute the dot produ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[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[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vector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 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is gives a valid valu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 i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 of the expression is nonzer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to be true, it must be the case th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(that is, the normal should not be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ld occur only as a mistak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(that i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(edg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parallel;                      if they are, no intersectio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 checks these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-B/L-B Param. Line Clipping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43200" y="4419720"/>
                <a:ext cx="1193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14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outside [0,1] on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remain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produce interior intersec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just take the innermos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lu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for a given edge, just before crossing: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        Potentially Entering (PE),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       Potentially Leaving (P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inner PE, PL pair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ma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m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-B/L-B Param. Line Clipping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64771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62320" y="62085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5248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September 29, 2005                     2D Clipping          15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Pseudocode for Cyrus-Beck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Liang-Barsky Line Cl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590920"/>
            <a:ext cx="502920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calculate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select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5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each ed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ach line segment to be cli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 is degenerate so clip as a 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;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ach candidate intersection with a  clip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i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{Ignore edges parallel to lin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t; {of line and clip edge intersection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sign of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 to categorize as PE or P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n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P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P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s true clip inter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2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pping end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point in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 analysis for li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both endpoints in , can do “trivial acceptan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one endpoint is inside, one outside, must c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both endpoints out, don’t k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ute force clip: solve simultaneous equations using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mx +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line and four clip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pe-intercept formula handles infinite lines on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esn’t handle vertical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Line Cl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7720" y="377208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8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9880" y="4114800"/>
            <a:ext cx="1629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3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ric form for line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t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0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t(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(t) =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t(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,” i.e., interior intersection,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[0,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Parametric Line For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For Cl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233352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5120" y="5867280"/>
            <a:ext cx="31525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4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248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de plane into 9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it outcode records results of four bounds te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bit:      outside halfplane of top edge, above top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bit:  outside halfplane of bottom edge, below bottom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bit:     outside halfplane of right edge, to right of right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bit:   outside halfplane of left edge, to left of left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 can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ivially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lying entirely in a half plane on outside of an edge can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ivially rejec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 (i.e., they share an “outside” 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Outcodes for Cohen-Sutherl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Line Clipping in 2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62916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4800600"/>
            <a:ext cx="1447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86000" y="403812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920" y="48006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p Rect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5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248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similar to 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de volume into 27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bit outcode records results of four bounds tes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bi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outside volume of back plane, behind back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bit:  outside volume of front plane, in front of front pla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bit:     outside volume of top plane, above top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bit:   outside volume of bottom plane, below bottom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bi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outside volume of right plane, to right of righ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bit:     outside volume of left plane, to left of left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 can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ivially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lying entirely in a volume on outside of a plane can b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ivially rejec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 (i.e., they share an “outside” 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Outcodes for Cohen-Sutherl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Line Clipping in 3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7160" y="2514600"/>
            <a:ext cx="6435360" cy="1907280"/>
            <a:chOff x="227160" y="2514600"/>
            <a:chExt cx="6435360" cy="1907280"/>
          </a:xfrm>
        </p:grpSpPr>
        <p:grpSp>
          <p:nvGrpSpPr>
            <p:cNvPr id="74" name=""/>
            <p:cNvGrpSpPr/>
            <p:nvPr/>
          </p:nvGrpSpPr>
          <p:grpSpPr>
            <a:xfrm>
              <a:off x="227160" y="2514600"/>
              <a:ext cx="2168280" cy="1907280"/>
              <a:chOff x="227160" y="2514600"/>
              <a:chExt cx="2168280" cy="1907280"/>
            </a:xfrm>
          </p:grpSpPr>
          <p:sp>
            <p:nvSpPr>
              <p:cNvPr id="75" name=""/>
              <p:cNvSpPr/>
              <p:nvPr/>
            </p:nvSpPr>
            <p:spPr>
              <a:xfrm>
                <a:off x="950760" y="3287880"/>
                <a:ext cx="654120" cy="71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1296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0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716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3224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1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716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1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7508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0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060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1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7508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01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1296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0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716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10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8520" y="2514600"/>
                <a:ext cx="180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ont pla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360880" y="2514600"/>
              <a:ext cx="2168280" cy="1907280"/>
              <a:chOff x="2360880" y="2514600"/>
              <a:chExt cx="2168280" cy="1907280"/>
            </a:xfrm>
          </p:grpSpPr>
          <p:sp>
            <p:nvSpPr>
              <p:cNvPr id="87" name=""/>
              <p:cNvSpPr/>
              <p:nvPr/>
            </p:nvSpPr>
            <p:spPr>
              <a:xfrm>
                <a:off x="3084480" y="3287880"/>
                <a:ext cx="654120" cy="71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4668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0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6088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6596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1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6088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1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0880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0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6432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1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80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01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4668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0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6088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00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32240" y="2514600"/>
                <a:ext cx="180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enter pla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4240" y="2514600"/>
              <a:ext cx="2168280" cy="1907280"/>
              <a:chOff x="4494240" y="2514600"/>
              <a:chExt cx="2168280" cy="1907280"/>
            </a:xfrm>
          </p:grpSpPr>
          <p:sp>
            <p:nvSpPr>
              <p:cNvPr id="99" name=""/>
              <p:cNvSpPr/>
              <p:nvPr/>
            </p:nvSpPr>
            <p:spPr>
              <a:xfrm>
                <a:off x="5217840" y="3287880"/>
                <a:ext cx="654120" cy="71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8004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424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9932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1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9424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1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42160" y="350532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97680" y="2841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1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94216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1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8004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94240" y="411480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1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65600" y="2514600"/>
                <a:ext cx="180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ar pla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6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we can neither trivial reject nor accept, divide and conquer: subdivide line into two segments, then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/A or T/R one or both seg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a clip edge to cut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outcodes to choose edge that is crossed: if outcodes differ in the edge’s bit, endpoints must straddle that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ck an order for checking edges:                                 top – bottom – right –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 the intersection point; the clip edge fixes eith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can be substituted into the line equ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rate for the newly shortened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a” clips may happen, e.g., E-I at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ohen-Sutherland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19320" y="5410080"/>
            <a:ext cx="4821840" cy="2471040"/>
            <a:chOff x="1219320" y="5410080"/>
            <a:chExt cx="4821840" cy="2471040"/>
          </a:xfrm>
        </p:grpSpPr>
        <p:sp>
          <p:nvSpPr>
            <p:cNvPr id="114" name=""/>
            <p:cNvSpPr/>
            <p:nvPr/>
          </p:nvSpPr>
          <p:spPr>
            <a:xfrm>
              <a:off x="2286360" y="6324480"/>
              <a:ext cx="190476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632448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7086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360" y="5638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1120" y="5638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90320" y="6781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p rect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8200" y="5991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960" y="563868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38280" y="6019920"/>
              <a:ext cx="3352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52880" y="56055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3080" y="6286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9560" y="6434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8280" y="6738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0360" y="7053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5800" y="75819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34320" y="6286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48480" y="5996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3400" y="5410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7440" y="5791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3240" y="6019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4480" y="63244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40440" y="75438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7120" y="7086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2920" y="6705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7320" y="63244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3480" y="59436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7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7909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OutCode(x0, y0, outcode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OutCode(x1, y1, outcode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for trivial reject or trivia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ck the point that is outside the clip rect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x0 + (x1 – x0) * (ymax – y0)/(y1 – y0); y = yma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OTT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x0 + (x1 – x0) * (ymin – y0)/(y1 – y0); y = ym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y0 + (y1 – y0) * (xmax – x0)/(x1 – x0); x = xma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EF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y0 + (y1 – y0) * (xmin – x0)/(x1 – x0); x = xm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{calculate the line segment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utcode = outcode0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0 = x; y0 = y; ComputeOutCode(x0, y0, outcode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1 = x; y1 = y; ComputeOutCode(x1, y1, outcode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{Subdivid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62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Pseudocode for the Cohen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utherland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" y="1904040"/>
            <a:ext cx="55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= y0 + slope*(x - x0)  and  x = x0 + (1/slope)*(y - y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438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5715000"/>
            <a:ext cx="304560" cy="27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September 29, 2005                     2D Clipping          8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6858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’t round and then sc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 decision variable based on pixel chosen on left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rizontal edge problem: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ping and rounding produces pixel A; to get pixel B, round up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the intersection of the line with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-  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pick pixel abo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can Conversion after Cli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49315"/>
          <a:stretch/>
        </p:blipFill>
        <p:spPr>
          <a:xfrm>
            <a:off x="228600" y="2286000"/>
            <a:ext cx="6400800" cy="2209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6172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7391520"/>
            <a:ext cx="48769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752480" y="6781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13372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51460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9548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27672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65760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03848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41972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0060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56272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3600" y="5943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6781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7086600"/>
            <a:ext cx="4876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752480" y="5943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3600" y="63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5720" y="632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2400" y="5759280"/>
            <a:ext cx="78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3800" y="6477120"/>
            <a:ext cx="78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800" y="7162920"/>
            <a:ext cx="106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</a:rPr>
              <a:t>y = y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Times New Roman"/>
              </a:rPr>
              <a:t>min 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</a:rPr>
              <a:t>–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9840" y="6781680"/>
            <a:ext cx="1224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y = y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Times New Roman"/>
              </a:rPr>
              <a:t>min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– 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360" y="7023240"/>
            <a:ext cx="152280" cy="12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41911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6629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72388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66294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7238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7238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7238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7238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66294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6629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6629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72388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6629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72388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72388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295280" y="5790960"/>
            <a:ext cx="5029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6019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6019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6019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6019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66294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66294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66294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6294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6629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September 29, 2005                     2D Clipping           9/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 =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 baseline="-5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an arbitrary point on the clip edge;         it’s a free variable and drops 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lculations  for Parametric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lipping for Upright Clip Rectangl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4419720"/>
          <a:ext cx="6096240" cy="335268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914400"/>
                <a:gridCol w="1447560"/>
                <a:gridCol w="129564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p Edg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N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50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P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50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: x = 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1,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: x = 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tom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-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, 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x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: y = 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, 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x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257800" y="44956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257800" y="5181480"/>
                <a:ext cx="91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257800" y="5867280"/>
                <a:ext cx="93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257800" y="6477120"/>
                <a:ext cx="93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257800" y="7162920"/>
                <a:ext cx="952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80880" y="4038480"/>
            <a:ext cx="60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ons for Parametric Line Clipping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1055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9:42:54Z</dcterms:created>
  <dc:creator>Casey Johnson</dc:creator>
  <dc:description/>
  <dc:language>en-US</dc:language>
  <cp:lastModifiedBy>Mike Shim</cp:lastModifiedBy>
  <dcterms:modified xsi:type="dcterms:W3CDTF">2005-09-27T04:49:29Z</dcterms:modified>
  <cp:revision>83</cp:revision>
  <dc:subject/>
  <dc:title>Andries van Dam      September 5, 2000        Introduction to Computer Graphics    1/7</dc:title>
</cp:coreProperties>
</file>