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commentAuthors.xml><?xml version="1.0" encoding="utf-8"?>
<p:cmAuthorLst xmlns:p="http://schemas.openxmlformats.org/presentationml/2006/main">
  <p:cmAuthor id="0" name="avd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4-09-27T19:58:47.428000000" idx="1">
    <p:pos x="10" y="10"/>
    <p:text>last line has a horrible orphan - look for those!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1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144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 Conver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495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ages 72 -78 of the text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0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trategy 2 – Midpoint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2438280"/>
            <a:ext cx="4800600" cy="4343400"/>
            <a:chOff x="685800" y="2438280"/>
            <a:chExt cx="4800600" cy="4343400"/>
          </a:xfrm>
        </p:grpSpPr>
        <p:sp>
          <p:nvSpPr>
            <p:cNvPr id="139" name=""/>
            <p:cNvSpPr/>
            <p:nvPr/>
          </p:nvSpPr>
          <p:spPr>
            <a:xfrm>
              <a:off x="1371600" y="243828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0920" y="243828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43828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243828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96216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51814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640080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82920" y="5067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76440" y="628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7480" y="6286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95760" y="5067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627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15080" y="62866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15080" y="5073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89280" y="38480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15080" y="3841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8954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5080" y="2781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0880" y="4876920"/>
            <a:ext cx="518184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5562720"/>
            <a:ext cx="292320" cy="1141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80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38080" y="6552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" y="6858000"/>
                <a:ext cx="1447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057400" y="6934320"/>
                <a:ext cx="1139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80880" y="7467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731520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7315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oices for curren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731520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oices for nex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400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724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5562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dpoint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096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410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09880" y="6934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1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ine passes between E and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 that is closer to the intersection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serve on which side of the line the mid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is closer to the line if the midpoi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es above the line, i.e., the line crosses the bottom ha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 is closer to the line if the midpoi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es below the line, i.e., the line crosses the top ha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, the vertical distance between the chosen pixel and the actual line, is always ≤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gorithm chooses NE as the next pixel for the line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, find a way to calculate on which side of the line the midpoint 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trategy 2 – Midpoint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71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2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8672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equation as a functi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f(x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 = f(x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*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*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equation as an implicit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*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*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0 for coeffici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 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abov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*d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y*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*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*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roperties (proof by case analysi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0 when any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 th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&lt; 0 when any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bove th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&gt; 0 when any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below th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decision will be based on the value of the function at the mid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8921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5779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51055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3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ecision Variabl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only need the sig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 to see where the line lies, and then pick the neares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&gt; 0 choose pixel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&lt; 0 choose pixel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0 choose either one consist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ow do we incrementally updat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basis of picking E or NE, figure out the loc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the next grid line, and the corresponding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(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that gri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Decision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8288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4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is incremented by one step in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tr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get the incremental differ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s value of decision variable at next step incrementally without compu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(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y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can be thought of as the correction or update factor to t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referred to a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forward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f E was chos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8288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5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is incremented by one step each in both the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and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2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3/2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tr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get the incremental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us, incremental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f NE was chos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209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6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ach step, the algorithm chooses between 2 pixels based on the sign of the decision variable calculated in the previous it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hen updates the decision variable by adding ei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 to the old value depending on the choice of pixel. Simple addition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rst pixel is the first endpoi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so we can directly calculate the initial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choosing between E and 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ummary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9051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rst midpoint for fir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 =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sta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½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*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*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 F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is point on the line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for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hoose the second pixe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eliminate frac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ef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multiplying it by 2;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2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ultiplies each constant and the decision variable by 2, but does not change the 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esenham’s line algorithm is the same but doesn’t generalize as nicely to circles and ellip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7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ummary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9051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Example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MidpointLine(int x0, int y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x1, int y1, int valu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dx = x1 - x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dy = y1 - y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d = 2 * dy - d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crE = 2 * d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crNE = 2 * (dy - d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x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y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Pixel(x, y, valu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x &lt; x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 &lt;= 0) {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Ea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d = d + inc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 {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 Northea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d = d + incrN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y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Pixel(x, y, valu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hil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idpointLin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Scan Conversion 1   18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2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5715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a line on a raster screen between two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’s wrong with the statement of the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doesn’t say anything about which points are allowed as en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doesn’t give a clear meaning to “draw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doesn’t say what constitutes a “line” in the raster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doesn’t say how to measure the success of a proposed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two poi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plane, both with integer coordinates, determine which pixels on a raster screen should be on in order to make a picture of a unit-width line segment starting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ending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 Conver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905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400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3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pecial ca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rizontal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incremen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value by one to get the next pix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al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incremen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value by one to get the next pix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ect Diagonal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increment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by one to get the next pix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should we do in the general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ment the x coordinate by 1 and choose the point closest to the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how do we measure “closest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Finding the next pix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905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91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can we use the vertical distance as a measure of which point is clo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the vertical distance is proportional to the actual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do we show thi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congruent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similar triangles we can see that the true distances to the line (in blue) are directly proportional to the vertical distances to the line (in black) for each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fore, the point with the smaller vertical distance to the line is the closest to th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ertical D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47920" y="3429000"/>
            <a:ext cx="3656880" cy="2712240"/>
            <a:chOff x="1447920" y="3429000"/>
            <a:chExt cx="3656880" cy="2712240"/>
          </a:xfrm>
        </p:grpSpPr>
        <p:sp>
          <p:nvSpPr>
            <p:cNvPr id="60" name=""/>
            <p:cNvSpPr/>
            <p:nvPr/>
          </p:nvSpPr>
          <p:spPr>
            <a:xfrm>
              <a:off x="1447920" y="5905440"/>
              <a:ext cx="318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919880" y="3429000"/>
              <a:ext cx="3184920" cy="2712240"/>
              <a:chOff x="1919880" y="3429000"/>
              <a:chExt cx="3184920" cy="2712240"/>
            </a:xfrm>
          </p:grpSpPr>
          <p:sp>
            <p:nvSpPr>
              <p:cNvPr id="62" name=""/>
              <p:cNvSpPr/>
              <p:nvPr/>
            </p:nvSpPr>
            <p:spPr>
              <a:xfrm>
                <a:off x="2981520" y="3429000"/>
                <a:ext cx="0" cy="27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1919880" y="3782520"/>
                <a:ext cx="3184920" cy="212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53480" y="3547080"/>
                <a:ext cx="118080" cy="11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53480" y="5551560"/>
                <a:ext cx="118080" cy="11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512520" y="4863240"/>
                <a:ext cx="0" cy="72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12520" y="3615480"/>
                <a:ext cx="0" cy="12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502440" y="3606120"/>
                <a:ext cx="569880" cy="8841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3128760" y="5079240"/>
                <a:ext cx="392760" cy="540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63040" y="4483080"/>
                <a:ext cx="5378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6596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65961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0800000">
                <a:off x="3252600" y="4446720"/>
                <a:ext cx="537840" cy="70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6596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65961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335400" y="5079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335400" y="5021280"/>
                <a:ext cx="11808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630600" y="4470840"/>
                <a:ext cx="11736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3581280" y="342900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4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e Bas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the equation of the line that connects the two poi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rting with the leftmost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nc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1 to calcul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slop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r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nsify the pixel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Rou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)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Floor (0.5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e Incremental Algorith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iteration requires a floating-point multipl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fore, modify the algorith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ach step, we make incremental calculations based on the preceding step to find the nex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5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trategy 1 - Incremen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2096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029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6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trategy 1 - Incremen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2895480"/>
            <a:ext cx="4800600" cy="4114800"/>
            <a:chOff x="685800" y="2895480"/>
            <a:chExt cx="4800600" cy="4114800"/>
          </a:xfrm>
        </p:grpSpPr>
        <p:sp>
          <p:nvSpPr>
            <p:cNvPr id="89" name=""/>
            <p:cNvSpPr/>
            <p:nvPr/>
          </p:nvSpPr>
          <p:spPr>
            <a:xfrm>
              <a:off x="1371600" y="289548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89548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289548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289548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3526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457200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57913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257480" y="5702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63840" y="4470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5760" y="4457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27680" y="3251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76440" y="5664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95760" y="56768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5080" y="56768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7480" y="44323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76440" y="32385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2120" y="4457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57480" y="32385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3160" y="32385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920" y="2971800"/>
            <a:ext cx="594360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2362320"/>
                <a:ext cx="838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838080" y="289548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27120" y="2438280"/>
                <a:ext cx="2536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Roun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 flipH="1">
            <a:off x="2666520" y="29718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66920" y="7162920"/>
                <a:ext cx="1760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Roun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 flipV="1">
            <a:off x="1523880" y="601956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9880" y="7162920"/>
                <a:ext cx="159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H="1" flipV="1">
            <a:off x="2743200" y="502884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486400"/>
            <a:ext cx="291960" cy="1144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63840" y="4851360"/>
            <a:ext cx="291960" cy="1144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Example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/ Incremental Line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/ Assumes –1 &lt;= m &lt;= 1, x0 &lt; 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Line(int x0, int y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x1, int y1, int valu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y = y1 – y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x = x1 – x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 = dy / d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y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x = x0; x &lt; x1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Pixel(x, Round(y)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y + 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7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209680"/>
            <a:ext cx="65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Line(int x0, int y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x1, int y1, int val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y = y1 – y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x = x1 – x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 = dy / d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y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x = x0; x &lt; x1; x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Pixel(x, Round(y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y + 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8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Problems with the Incremen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88960" y="3962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Rounding take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1960" y="6629400"/>
            <a:ext cx="47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ince slope is fractional, need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ase for vertic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912920" y="43434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657600" y="6248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ies van Dam                     September 27, 2005                Scan Conversion 1   9/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the line’s slope is shallow and positive (0 &lt; slope &lt; 1);  other slopes can be handled by suitable reflections about the principle 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the lower left endpoi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nd the upper right endpoi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we have just selected the 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 must choose between the pixel to the right (E pixel), or the one right and one up (NE 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 the intersection point of the line being scan-converted with the grid 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trategy 2 – Midpoint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lgorithm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Casey Johnson</dc:creator>
  <dc:description/>
  <dc:language>en-US</dc:language>
  <cp:lastModifiedBy>Yee Cheng Chin</cp:lastModifiedBy>
  <dcterms:modified xsi:type="dcterms:W3CDTF">2005-09-27T03:34:28Z</dcterms:modified>
  <cp:revision>82</cp:revision>
  <dc:subject/>
  <dc:title>Andries van Dam      September 5, 2000        Introduction to Computer Graphics    1/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7409995</vt:r8>
  </property>
  <property fmtid="{D5CDD505-2E9C-101B-9397-08002B2CF9AE}" pid="3" name="_AuthorEmail">
    <vt:lpwstr>Andries_van_Dam@Brown.EDU</vt:lpwstr>
  </property>
  <property fmtid="{D5CDD505-2E9C-101B-9397-08002B2CF9AE}" pid="4" name="_AuthorEmailDisplayName">
    <vt:lpwstr>van Dam, Andries</vt:lpwstr>
  </property>
  <property fmtid="{D5CDD505-2E9C-101B-9397-08002B2CF9AE}" pid="5" name="_EmailSubject">
    <vt:lpwstr>Scan Conversion lectures for Tues. Sept. 28</vt:lpwstr>
  </property>
  <property fmtid="{D5CDD505-2E9C-101B-9397-08002B2CF9AE}" pid="6" name="_ReviewingToolsShownOnce">
    <vt:lpwstr/>
  </property>
</Properties>
</file>