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9.jpeg" ContentType="image/jpeg"/>
  <Override PartName="/ppt/media/image40.png" ContentType="image/png"/>
  <Override PartName="/ppt/media/image28.png" ContentType="image/png"/>
  <Override PartName="/ppt/media/image30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39.png" ContentType="image/png"/>
  <Override PartName="/ppt/media/image41.png" ContentType="image/png"/>
  <Override PartName="/ppt/media/image42.png" ContentType="image/png"/>
  <Override PartName="/ppt/media/image13.png" ContentType="image/png"/>
  <Override PartName="/ppt/media/image44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7772400" cy="100584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77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145040" y="-360"/>
            <a:ext cx="3170160" cy="477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266920" y="722160"/>
            <a:ext cx="2782800" cy="36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123120"/>
            <a:ext cx="3170160" cy="477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145040" y="9123120"/>
            <a:ext cx="3170160" cy="477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6B358E5-D7BC-4263-9145-6BED89D71738}" type="slidenum">
              <a: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2266920" y="722160"/>
            <a:ext cx="2782800" cy="36007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e from “Occlusion Culling with Hierarchical Depth Maps” or something like that. Ned Greene and Michael K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2480" y="5543640"/>
            <a:ext cx="66074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68280" y="182880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2480" y="554364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68280" y="554364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21272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16640" y="1828800"/>
            <a:ext cx="21272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50440" y="1828800"/>
            <a:ext cx="21272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2480" y="5543640"/>
            <a:ext cx="21272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16640" y="5543640"/>
            <a:ext cx="21272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050440" y="5543640"/>
            <a:ext cx="21272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322416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68280" y="1828800"/>
            <a:ext cx="322416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82480" y="914400"/>
            <a:ext cx="6607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68280" y="1828800"/>
            <a:ext cx="322416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82480" y="554364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322416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68280" y="182880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68280" y="554364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68280" y="182880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82480" y="5543640"/>
            <a:ext cx="66074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382680" indent="-3826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382680" indent="-382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3" marL="382680" indent="-3826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4" marL="382680" indent="-382680">
              <a:spcBef>
                <a:spcPts val="751"/>
              </a:spcBef>
              <a:buClr>
                <a:srgbClr val="000000"/>
              </a:buClr>
              <a:buFont typeface="Times New Roman"/>
              <a:buChar char="­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5" marL="382680" indent="-382680">
              <a:spcBef>
                <a:spcPts val="751"/>
              </a:spcBef>
              <a:buClr>
                <a:srgbClr val="000000"/>
              </a:buClr>
              <a:buFont typeface="Times New Roman"/>
              <a:buChar char="­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6" marL="382680" indent="-382680">
              <a:spcBef>
                <a:spcPts val="751"/>
              </a:spcBef>
              <a:buClr>
                <a:srgbClr val="000000"/>
              </a:buClr>
              <a:buFont typeface="Times New Roman"/>
              <a:buChar char="­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1680" y="334800"/>
            <a:ext cx="7169040" cy="37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 N T R O D U C T I O N     T O     C O M P U T E R     G R A P H I C 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8800" y="250920"/>
            <a:ext cx="699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8800" y="754200"/>
            <a:ext cx="699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0280" y="96775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0280" y="90676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2480" y="3352320"/>
            <a:ext cx="660744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Visible Surface Determinatio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65320" y="5028840"/>
            <a:ext cx="5441760" cy="3241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History and modern practice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48640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6324480"/>
            <a:ext cx="2133720" cy="1676520"/>
          </a:xfrm>
          <a:prstGeom prst="cube">
            <a:avLst>
              <a:gd name="adj" fmla="val 268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6324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23520" y="7543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066680" y="7543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6324480"/>
            <a:ext cx="2133720" cy="1676520"/>
          </a:xfrm>
          <a:prstGeom prst="cube">
            <a:avLst>
              <a:gd name="adj" fmla="val 268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69343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Visible Surface Determination (1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82480" y="1574280"/>
            <a:ext cx="6732720" cy="695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Definit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iven a set of 3-D objects and a view specification (camera), determine which lines or surfaces of the object are vi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’ve already seen a VSD step…computing the smallest non-negative t value along a 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y might objects not be visible? occlusion vs. cli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ipping is one object at a time while occlusion is 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so called Hidden Surface Removal (HS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3623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0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76520" y="523224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Visible Surface Determination (2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Historical note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blem first posed for wireframe rend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lution called “hidden-line remov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: lines themselves don’t hide lines. Lines must be edges of opaque surfaces that hide other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techniques show hidden line segments as dotted or dashed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327672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onical 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297180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590920" y="3124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31240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3657600"/>
            <a:ext cx="0" cy="10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3276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676520" y="29718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35053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3505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676520" y="44956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67652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362320" y="41144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36232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2971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31240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1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590560" y="4267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708660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43200" y="72388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72388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7772400"/>
            <a:ext cx="0" cy="10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7391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828800" y="7086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76201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7620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1828800" y="8610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742840" y="8381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708660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562720" y="72388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72388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7772400"/>
            <a:ext cx="0" cy="10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7391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648320" y="7086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76201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7620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648320" y="8610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48320" y="82296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334120" y="82292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334120" y="7238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70866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72388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562360" y="8381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Visible Surface Determination (3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82480" y="1905120"/>
            <a:ext cx="6607440" cy="703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Three classes of algorithm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ervative” visibility testing: only trivial reject – does not give final answ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.g., back-face culling, canonical view volume clipping, spatial sub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ve to feed results to algorithms mentioned be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e precision – resolve visibility at discrete points in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ample model, then resolve visibility – i.e., figure out which objects it makes sense to compare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.g., raytracing, or Z-buffer and scan-line depth buffers (both in hardware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 precision – resolve for all possible view directions from a given ey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rrespective of view direction or sampling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lve visibility exactly, then sample th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.g., poly’s clipping poly’s, 3-D depth sort, BSP 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28600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2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718992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Visible Surface Determination (4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16292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Criteria to watch for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arious differences among algorith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sort of geometr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es it support transparent object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ti-alias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much of scene has to be conside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46720" indent="-2484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.g., ray-tracing usually able to consider less tha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1746720" indent="0">
              <a:spcBef>
                <a:spcPts val="71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buffering via clever pre-processing (e.g., spatial binning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ust preprocess the mode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es it easily handle moving objec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formance: space-time complexity. With large models, even O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too s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46720" indent="-2484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is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? # total objects, # visible objects, # pixels…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1746720" indent="-2484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lly some combination, i.e., # total objects x # pixe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pelines first use some conservative algorithms, then one of image-precision or object-precision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19051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3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884160" cy="914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431040" y="304812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473160" y="2743200"/>
            <a:ext cx="873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73440" y="3809880"/>
            <a:ext cx="1404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licit su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80880" y="2362320"/>
            <a:ext cx="884520" cy="914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rcRect l="82653" t="49882" r="10728" b="43084"/>
          <a:stretch/>
        </p:blipFill>
        <p:spPr>
          <a:xfrm>
            <a:off x="762120" y="3124080"/>
            <a:ext cx="7617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Visible Surface Determination (5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Exploit coherence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egree to which parts of an environment exhibit logical similarities. Make good guesses! Reuse previous calcula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e: except at object boundaries, adjacent pixels tend to be from the sam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-line conversion takes advantage of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: objects aren’t point clouds – they tend to be 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-line conversion takes advantage of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sible set: set of visible objects doesn’t change much as viewpoint moves incrementally (largely unexploi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objects don’t move that much frame-to-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ckground objects tend to stay constant while relatively fewer foreground objects move (games take advantage of this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s tend to be clustered together in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atial subdivision will take advantage of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4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Object Database Culling Technique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6607440" cy="7315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Conservative” visibility test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ugely important to minimize load on pipeline by culling detail that can’t be s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ew volume visibility is the most literal application of this princi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only see a small portion of the model from any particular viewpoint, particularly for big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Topics We’ll Cover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atial Subdivision, Bounding Volume Hierarchies: Spatially dependent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ck-Face Culling: Objects occlude parts of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th Culling: Objects block other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vanced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251460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5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ounding Volume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tents and Bounding Volu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und each complex object with a simpler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of simpler volumes: sphere,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ay &amp; Kajiya SIGGRAPH ’86 uses polyhed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bounding volume isn’t visible, neither is object inside i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 put multiple objects into one volume: more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eat for ray-tracing pipelin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uick reject: check ray against bounding volume 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uicker reject: check group of rays (frustum) against bounding volume of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eat for traditional hardware pipelin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ivial reject large numbers of triangles at a time during clipping, don’t have to draw ANY of its triang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.g., if bounding box of tessellated sphere is not visible, don’t have to draw all its triangl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56272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720" y="5638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gle 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00880" y="55245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876920" y="5562720"/>
            <a:ext cx="761760" cy="1295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5562720"/>
            <a:ext cx="876600" cy="1342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9760" y="533412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5562720"/>
            <a:ext cx="3808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409720" y="55627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562360" y="5562720"/>
            <a:ext cx="759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5562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5627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6095880"/>
            <a:ext cx="1143000" cy="838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6248520"/>
            <a:ext cx="1143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980720" y="6095880"/>
            <a:ext cx="228600" cy="152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3123720" y="6095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1980720" y="6933960"/>
            <a:ext cx="22860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6248520"/>
            <a:ext cx="1143000" cy="8380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94040" y="6934320"/>
            <a:ext cx="13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610884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1657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13800" y="6469200"/>
            <a:ext cx="788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bitrar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12840" y="6754680"/>
            <a:ext cx="177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bounding frustum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bundle of 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1000" y="6568920"/>
            <a:ext cx="112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bo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box of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6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63880" y="6934320"/>
            <a:ext cx="13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61023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8288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2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2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ounding Volume Hierarchy (1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 technique for organizing entire mod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wo methods of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peatedly group bounding volumes of nearby objects together until entire scene is bou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quires some form of spatial sor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uld use original scene graph: bounding volumes at nodes = union of child bounding volu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sy to mak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ly useful if scene graph is already spatially coherent (otherwise boxes will not be t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6324480"/>
            <a:ext cx="22860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63244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4771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80010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30960" y="6477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64120" y="7848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4840" y="6477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6324480"/>
            <a:ext cx="533520" cy="45720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477120"/>
            <a:ext cx="533520" cy="457200"/>
          </a:xfrm>
          <a:prstGeom prst="irregularSeal1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8001000"/>
            <a:ext cx="533520" cy="457200"/>
          </a:xfrm>
          <a:prstGeom prst="irregularSeal1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8760" y="617220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ot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1840" y="678168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box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480" y="678168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box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480" y="678168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box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44840" y="7543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63800" y="7543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6800" y="7467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495320" y="64771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708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715000" y="64771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64771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15000" y="7162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0" y="708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7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95480" y="85978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unding Bo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,B,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ounding Volume Hierarchy (2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pplications in both pipeline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ing: if ray intersects parent, check the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-conversion: if root not completely clipped, check the children recurs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’re at a leaf, pass its polygons to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2971800"/>
            <a:ext cx="22860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9718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31240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4648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3096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120" y="449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4840" y="312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2971800"/>
            <a:ext cx="533520" cy="45720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3124080"/>
            <a:ext cx="533520" cy="457200"/>
          </a:xfrm>
          <a:prstGeom prst="irregularSeal1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4648320"/>
            <a:ext cx="533520" cy="457200"/>
          </a:xfrm>
          <a:prstGeom prst="irregularSeal1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08760" y="281952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ot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91840" y="342900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box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480" y="34290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box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480" y="34290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box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484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63800" y="4191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06800" y="4235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495320" y="31240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715000" y="31240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312408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6120" y="5257800"/>
            <a:ext cx="4717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 check root bbox; hit, so check child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. check bbox A; 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. check bbox B; 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4. check bbox C; hit, so check child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. check C; hi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6. all done; C was clos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48006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3733560" y="380952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8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patial Subdivision (1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nother way to organize whole mod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p-down construction: divide and conqu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vide space into cells, place objects in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-converter places polygons in the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er places bounding volumes in the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523880" y="4800600"/>
            <a:ext cx="5038920" cy="3394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129040" y="8229600"/>
            <a:ext cx="44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-D example of spatial sub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9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aytracing “Pipeline”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er produces visible samples from model, samples convolved  w/filter to form pixel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09960" y="2819520"/>
            <a:ext cx="19429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travers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accumulate C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spatially organi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276720"/>
            <a:ext cx="1600200" cy="380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en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3048120"/>
            <a:ext cx="1600200" cy="838080"/>
          </a:xfrm>
          <a:prstGeom prst="roundRect">
            <a:avLst>
              <a:gd name="adj" fmla="val 388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itabl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-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4495680"/>
            <a:ext cx="25146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op over obj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ersect with each 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ep track of closest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48006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ght the s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6629400"/>
            <a:ext cx="1523880" cy="4572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s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6629400"/>
            <a:ext cx="761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6553080"/>
            <a:ext cx="1371600" cy="685800"/>
          </a:xfrm>
          <a:prstGeom prst="roundRect">
            <a:avLst>
              <a:gd name="adj" fmla="val 46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xel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nal 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65760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processing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44197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osest 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3341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ach desired sampl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some (u, v) on film plane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8006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nerate 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6858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6858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17524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5943600"/>
            <a:ext cx="22100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nerate secondary 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5257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343400" y="5562360"/>
            <a:ext cx="457200" cy="36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patial Subdivision (2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pplications for both pipeline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ing: rays “walk” through the cells, only checking objects in those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rt in cell of eye point; skip empty cells; stop walking when we find an 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edup: walk bundle of rays through the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-conversion: clip groups of polygons at a time. Only cells impinging on the view volume have their contents proc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3809880"/>
            <a:ext cx="2590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 R only needs to be intersec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objects A, B, and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066680" y="3276720"/>
            <a:ext cx="3505320" cy="2081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0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611760" y="5867280"/>
            <a:ext cx="1160640" cy="1190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patial Subdivision (3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678168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Methods of Spatial Subdivis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gula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one approach, the environment is partitioned into a regular grid of equal-sized rectangular volu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sy to tra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 adaptive: doesn’t account for varying object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c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ld is divided into 8 cubes, and objects are sorted by which cube they belong to. Recurse by subdividing each cube until # objs/cube is 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-D equivalent: quad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ierarch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nsitive to scene density – more work for a ray to tra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 trees (Binary Space Partition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ld is recursively divided by arbitrary split planes; objects sorted by which side of the plane they’re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ven more sensitive to scene, even harder for a ray to travers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ll cover more later on in the l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4960" y="7072200"/>
            <a:ext cx="1371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443560" y="70722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19880" y="73008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29360" y="70722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48480" y="7148520"/>
            <a:ext cx="380880" cy="22860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7148520"/>
            <a:ext cx="152280" cy="30492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48520" y="7162920"/>
            <a:ext cx="304560" cy="228600"/>
          </a:xfrm>
          <a:prstGeom prst="pentagon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48320" y="7419960"/>
            <a:ext cx="7632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4"/>
          <a:srcRect l="0" t="0" r="0" b="11112"/>
          <a:stretch/>
        </p:blipFill>
        <p:spPr>
          <a:xfrm>
            <a:off x="2286000" y="3200400"/>
            <a:ext cx="2895480" cy="1528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5334120" y="6019920"/>
            <a:ext cx="1066680" cy="71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1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3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3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3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3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3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3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3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3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3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Global Scene Organizatio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82480" y="1676160"/>
            <a:ext cx="6607440" cy="7467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Summary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ybrid techniques best: combine spatial subdivision and bounding volume scenegraph hierarch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de-off upfront investment in constructing object database for savings during every subsequent rendering p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truct only o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eds up every fr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er gets speedup for every 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rdware pipeline draws fewer triang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zy” or on-the-fly subdivision – only when cell touched – could be better than a-priori subdivisio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lly good for (largely) static scenes, really bad for scenes with lots of moving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Ray-Tracing News: lots of algorithms, deep thoughts from hard-core “raytracin’ dudes,” published at random interv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3333cc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http://www.acm.org/tog/resources/RTNews/htm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.Havran, J. Prikryl, and W. Purgathofer: "Statistical Comparison of Ray-Shooting Efficiency Schemes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s a pretty good analysis and comparison of different spatial subdivision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2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Clipping Against View Volume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hedra transformed to the normalized world are clipped against the bounds of the canonical view volume, a polygon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s are clipped an edge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ersection calculations are trivial because of the normalized planes of the canonical view 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w vertices are created where objects are cli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 bounding volumes to trivially reject groups of objects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ing doesn’t need to clip polygons against the view volume: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762120" y="4343400"/>
            <a:ext cx="6858000" cy="24829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3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18288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330" idx="1"/>
            <a:endCxn id="330" idx="1"/>
          </p:cNvCxnSpPr>
          <p:nvPr/>
        </p:nvCxnSpPr>
        <p:spPr>
          <a:xfrm flipH="1" flipV="1" rot="10800000">
            <a:off x="761760" y="5583600"/>
            <a:ext cx="2160" cy="25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0">
            <a:noFill/>
          </a:ln>
        </p:spPr>
      </p:cxnSp>
      <p:cxnSp>
        <p:nvCxnSpPr>
          <p:cNvPr id="334" name=""/>
          <p:cNvCxnSpPr/>
          <p:nvPr/>
        </p:nvCxnSpPr>
        <p:spPr>
          <a:xfrm>
            <a:off x="151920" y="8457840"/>
            <a:ext cx="305640" cy="22932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335" name=""/>
          <p:cNvCxnSpPr>
            <a:endCxn id="330" idx="1"/>
          </p:cNvCxnSpPr>
          <p:nvPr/>
        </p:nvCxnSpPr>
        <p:spPr>
          <a:xfrm flipH="1" flipV="1" rot="5400000">
            <a:off x="163080" y="5954040"/>
            <a:ext cx="969120" cy="229320"/>
          </a:xfrm>
          <a:prstGeom prst="bentConnector2">
            <a:avLst/>
          </a:prstGeom>
          <a:ln w="0">
            <a:noFill/>
          </a:ln>
        </p:spPr>
      </p:cxnSp>
      <p:sp>
        <p:nvSpPr>
          <p:cNvPr id="336" name=""/>
          <p:cNvSpPr/>
          <p:nvPr/>
        </p:nvSpPr>
        <p:spPr>
          <a:xfrm>
            <a:off x="2362320" y="5257800"/>
            <a:ext cx="304560" cy="1066680"/>
          </a:xfrm>
          <a:custGeom>
            <a:avLst/>
            <a:gdLst/>
            <a:ahLst/>
            <a:rect l="l" t="t" r="r" b="b"/>
            <a:pathLst>
              <a:path w="240" h="720">
                <a:moveTo>
                  <a:pt x="0" y="0"/>
                </a:moveTo>
                <a:cubicBezTo>
                  <a:pt x="36" y="24"/>
                  <a:pt x="72" y="48"/>
                  <a:pt x="96" y="144"/>
                </a:cubicBezTo>
                <a:cubicBezTo>
                  <a:pt x="120" y="240"/>
                  <a:pt x="120" y="480"/>
                  <a:pt x="144" y="576"/>
                </a:cubicBezTo>
                <a:cubicBezTo>
                  <a:pt x="168" y="672"/>
                  <a:pt x="204" y="696"/>
                  <a:pt x="240" y="7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ack-Face Culling (1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Line of Sight Interpretat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proach assumes objects defined as closed polyhedra, with eye point always outside of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tward nor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N) of polygon to test for re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S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 of S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he projector from the center of projection (COP) to any point P on the polygon. (For parallel projections LOS = DOP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rection of proj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normal is facing in same direction as LOS, it’s a back 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LOS •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0, then polygon is invisible – dis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LOS • ON &lt; 0, then polygon may be vi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render one lone polyhedron, you need back-face culling as VS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90720" y="6172200"/>
            <a:ext cx="2995560" cy="17985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19720" y="6197760"/>
            <a:ext cx="2743200" cy="17269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4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ack-Face Culling (2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238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Plane Half-Spaces Interpretation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802080" indent="0">
              <a:lnSpc>
                <a:spcPct val="9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plane can be defined by a normal N and any point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n the pla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lane satisfied by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 D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write as (N • P) + D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k another point,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then we can say N •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–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ice that –N •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s constant; let’s call it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lve for D using any point on the pla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lane divides all points into two half-sp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N • P) + D = 0, P is on 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N • P) + D &gt; 0, P is in positive half-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N • P) + D &lt; 0,  P is in negative half-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 define polyhedron as intersection of plan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ce =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 faces away for eye points in the negative half-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slide: if (N • Eye) + D&lt; 0, dis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vious slide: if (N • LOS) &gt;=0, dis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S = P – Eye; D = -(N • P): they’re equivalen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ster than recalculating LOS per-polygon (3 subs, 3 mults, 3 adds vs. 3 mults and 4 ad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2971800" y="5410080"/>
            <a:ext cx="3200400" cy="15811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5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3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500"/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3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3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500"/>
                                        <p:tgtEl>
                                          <p:spTgt spid="3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34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34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ack-Face Culling (3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How we do it using immediate-mode API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ly have a triangle, no sense of “inside-outsid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triangle is derived from tessellating surface of solid object. Therefore, as you tessellate, specify the vertices with a particular winding with respect to an outward normal (specifically, you used a counter-clock-wise winding for your Shapes assign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GL automatically computes an outward normal from the cross product of two consecutive screen-space edges and culls back-facing polyg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ust checks the sign of the resulting z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6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51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2590920" y="4343040"/>
            <a:ext cx="3808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1904760" y="4343400"/>
            <a:ext cx="6858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1828440" y="4648320"/>
            <a:ext cx="6858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5486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343040" y="4419720"/>
            <a:ext cx="68580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5334120" y="533376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5029200" y="4419360"/>
            <a:ext cx="38088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5105520"/>
            <a:ext cx="38124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H/W Scan Conversion: Perspective Transformation (PT) (1/2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82480" y="1980720"/>
            <a:ext cx="6607440" cy="695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T preserves “in front of” relationships, straight lines and planes, and performs perspective foreshort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5334120"/>
            <a:ext cx="4876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onical perspective-projection view volume with cu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33440" y="8153280"/>
            <a:ext cx="5105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spective Trans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normalized parallel-proje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ew volume. Note that cube is distorted (perspective foreshorteni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Remember PT transforms z from [-1,0] to [0,1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19810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3809880" cy="21304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2286000" y="5943600"/>
            <a:ext cx="3200400" cy="20113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7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55880" y="3581280"/>
            <a:ext cx="21276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61722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6172200"/>
            <a:ext cx="990360" cy="3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1,1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057400" y="7691400"/>
            <a:ext cx="990720" cy="3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-1,-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3124080"/>
            <a:ext cx="990720" cy="3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-1,1,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48120" y="4800600"/>
            <a:ext cx="99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4724280"/>
            <a:ext cx="9907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4572000"/>
            <a:ext cx="9903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k,-k,-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0" y="7238880"/>
            <a:ext cx="2286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H/W Scan Conversion: Perspective Transformation (PT) (1/2)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ipping after PT is simply along planes defin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-1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1), (-1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1), (0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z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lt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th comparison before 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are every two points, e.g.,      and    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form calculation to determine if they are on same projector (a lot of work, effectively ray-trac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, 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pairs are on same projector, then z-values are comp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th comparison after the 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are every two points, e.g.,       and     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ust          , and       must           for one of those points to obscure the other, i.e., to be on the same projector (not much work to perform necessary comparis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’, y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pairs are equal then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values are comp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jection after PT is just discard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valu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7524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33520" y="6858000"/>
            <a:ext cx="6705360" cy="19987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8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4843440" y="4390920"/>
                <a:ext cx="390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576760" y="4381560"/>
                <a:ext cx="4176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48120" y="2705040"/>
                <a:ext cx="2923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5524560" y="2714760"/>
                <a:ext cx="291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1974960" y="4648320"/>
                <a:ext cx="3776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762280" y="4686480"/>
                <a:ext cx="5396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800520" y="4686480"/>
                <a:ext cx="336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660920" y="4695840"/>
                <a:ext cx="5205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6134040" y="712476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9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eview of CRT Buffer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ght in the phosphor display of the CRT monitor decays very quickly. Screen must be frequently refreshed (at least 60 times/second) to maintain a constant image without flick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reen is refreshed one scan line at a time from pixel information held in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fre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am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buffers can be used to store other pixel information. For example, we will use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buff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whic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values (depth of points on a polygon) are stored to do V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rcRect l="28724" t="0" r="0" b="0"/>
          <a:stretch/>
        </p:blipFill>
        <p:spPr>
          <a:xfrm>
            <a:off x="2438280" y="5791320"/>
            <a:ext cx="5105520" cy="2057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9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7848720"/>
            <a:ext cx="220968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shown as floats, though typically 24bit or 32bit i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17524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7315200"/>
            <a:ext cx="4191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66880" y="7315200"/>
            <a:ext cx="1524240" cy="6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ame buffer with pix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rcRect l="-7446" t="0" r="71277" b="0"/>
          <a:stretch/>
        </p:blipFill>
        <p:spPr>
          <a:xfrm>
            <a:off x="-76320" y="5791320"/>
            <a:ext cx="2590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endering Polygons (1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7010280" cy="7391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Raytracing could work…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ing and implicit surface model definition go well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many of our existing models and modeling apps are still based on polygon meshes. How do we render th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 raytrace polyg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tter solution: traditional polygons-to-pixels h/w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-Triangle intersection is not too har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 ray-intersect-plane using the plane of the poly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eck if resulting point is inside the tri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st methods using Plücker coordinates or barycentric 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lücker coordinates are like homogeneous coordinates only in 6 dimensions instead of 4. The extra dimensions give an understanding of the winding of the polyg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rycentric coordinates uses the areas of triangles created with the ray and vertices to determine if they inters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-Polygon intersection is simila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 decompose into tri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0574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918216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jpa,avd                                 November 9, 2000                                VSD 3/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76920" y="6985080"/>
            <a:ext cx="2590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Depth Comparison using a </a:t>
            </a:r>
            <a:br>
              <a:rPr sz="3600"/>
            </a:br>
            <a:r>
              <a:rPr b="0" i="1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Z-Buffer –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Image Precisio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marL="37872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The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Z-buffer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 algorithm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buffer is initialized to background value (furthest plane of view volume = 1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 each object is traverse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values of all its sample points are compared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value in sa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, 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ocation in Z-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2512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uld be determined by plugg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o the plane equation for polygon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2512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reality, calcula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t vertices and interpolate 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new point h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less than previous one (i.e., closer to eye), i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value is placed in z-buffer and its color placed in frame buffer at sa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, 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otherwise previous z-value and frame buffer color are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 store depth as integers or floats or fixed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2512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.e.for 8-bit (1 byte) integer z-buffer, set 0.0 -&gt;0 and 1.0 -&gt;2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2512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representation has its advantages in terms of pr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-sorting only avoids shading interpolation – not worth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0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2120" y="222876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5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500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5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500"/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Z-Buffer Algorithm (1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quires two “buffer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ensity Buff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our familiar RGB pixel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itialized to background 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th (“Z”) Buff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depth of scene at each pi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itialized to far depth = 2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s are scan-converted in arbitrary order. When pixels overlap, use Z-buffer to decide which polygon “gets” that pi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8381880"/>
            <a:ext cx="5410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bove: example using integer Z-buffer with near = 0, far = 2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1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2120" y="17524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990720" y="4800600"/>
          <a:ext cx="1752480" cy="1600200"/>
        </p:xfrm>
        <a:graphic>
          <a:graphicData uri="http://schemas.openxmlformats.org/drawingml/2006/table">
            <a:tbl>
              <a:tblPr/>
              <a:tblGrid>
                <a:gridCol w="218880"/>
                <a:gridCol w="219240"/>
                <a:gridCol w="218880"/>
                <a:gridCol w="219240"/>
                <a:gridCol w="218880"/>
                <a:gridCol w="219240"/>
                <a:gridCol w="218880"/>
                <a:gridCol w="219240"/>
              </a:tblGrid>
              <a:tr h="2286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990720" y="6629400"/>
          <a:ext cx="1752480" cy="1611360"/>
        </p:xfrm>
        <a:graphic>
          <a:graphicData uri="http://schemas.openxmlformats.org/drawingml/2006/table">
            <a:tbl>
              <a:tblPr/>
              <a:tblGrid>
                <a:gridCol w="218880"/>
                <a:gridCol w="219240"/>
                <a:gridCol w="218880"/>
                <a:gridCol w="219240"/>
                <a:gridCol w="218880"/>
                <a:gridCol w="219240"/>
                <a:gridCol w="218880"/>
                <a:gridCol w="219240"/>
              </a:tblGrid>
              <a:tr h="2286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3200400" y="4800600"/>
          <a:ext cx="1752480" cy="1419120"/>
        </p:xfrm>
        <a:graphic>
          <a:graphicData uri="http://schemas.openxmlformats.org/drawingml/2006/table">
            <a:tbl>
              <a:tblPr/>
              <a:tblGrid>
                <a:gridCol w="219240"/>
                <a:gridCol w="218880"/>
                <a:gridCol w="219240"/>
                <a:gridCol w="218880"/>
                <a:gridCol w="219240"/>
                <a:gridCol w="276120"/>
                <a:gridCol w="162000"/>
                <a:gridCol w="218880"/>
              </a:tblGrid>
              <a:tr h="2286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5105520" y="4800600"/>
          <a:ext cx="1752480" cy="1611360"/>
        </p:xfrm>
        <a:graphic>
          <a:graphicData uri="http://schemas.openxmlformats.org/drawingml/2006/table">
            <a:tbl>
              <a:tblPr/>
              <a:tblGrid>
                <a:gridCol w="218880"/>
                <a:gridCol w="219240"/>
                <a:gridCol w="218880"/>
                <a:gridCol w="219240"/>
                <a:gridCol w="218880"/>
                <a:gridCol w="219240"/>
                <a:gridCol w="218880"/>
                <a:gridCol w="219240"/>
              </a:tblGrid>
              <a:tr h="2286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2791440" y="5410080"/>
            <a:ext cx="334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23200" y="5410080"/>
            <a:ext cx="334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105520" y="6629400"/>
          <a:ext cx="1752480" cy="1611360"/>
        </p:xfrm>
        <a:graphic>
          <a:graphicData uri="http://schemas.openxmlformats.org/drawingml/2006/table">
            <a:tbl>
              <a:tblPr/>
              <a:tblGrid>
                <a:gridCol w="218880"/>
                <a:gridCol w="219240"/>
                <a:gridCol w="218880"/>
                <a:gridCol w="219240"/>
                <a:gridCol w="218880"/>
                <a:gridCol w="219240"/>
                <a:gridCol w="218880"/>
                <a:gridCol w="219240"/>
              </a:tblGrid>
              <a:tr h="2286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3200400" y="6618240"/>
          <a:ext cx="1752480" cy="16113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9240"/>
                <a:gridCol w="219240"/>
                <a:gridCol w="218880"/>
                <a:gridCol w="219240"/>
                <a:gridCol w="218880"/>
                <a:gridCol w="219240"/>
              </a:tblGrid>
              <a:tr h="2286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2818440" y="7238880"/>
            <a:ext cx="334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23200" y="7315200"/>
            <a:ext cx="334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Z-Buffer Algorithm (2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7315200" cy="7493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lvl="1" marL="806040" indent="-314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 every polygon that we can’t reject trivi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-314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find a piece (one or more pixels) of a polygon that is closer to the front, we paint over whatever was behin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zBuffe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 =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MA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Pixe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, y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CKGROUND_VALU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Z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, y, 1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polyg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pixel in polygon’s projec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ubl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z =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polygon’s Z-value at pixel (x, y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z &l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Z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x, y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* New point is closer to front of view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Pix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, y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polygon’s color at pixel (x, y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Z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, y, p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Buffer Apple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ttp://www.cs.technion.ac.il/~cs234325/Homepage/Applets/applets/zbuffer/GermanApplet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2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17524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5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5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5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4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4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4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4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4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4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4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500"/>
                                        <p:tgtEl>
                                          <p:spTgt spid="4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Z-Buffer Algorithm (3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754380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5000"/>
          </a:bodyPr>
          <a:p>
            <a:pPr marL="363240" indent="0">
              <a:spcBef>
                <a:spcPts val="8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So how do we compute this efficiently?</a:t>
            </a:r>
            <a:endParaRPr b="1" lang="en-US" sz="2200" spc="-1" strike="noStrike">
              <a:solidFill>
                <a:srgbClr val="3333cc"/>
              </a:solidFill>
              <a:latin typeface="Times New Roman"/>
            </a:endParaRPr>
          </a:p>
          <a:p>
            <a:pPr lvl="1" marL="785520" indent="-3009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swer is simple: do it incrementally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-3009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member scan conversion/polygon filling? As we move along Y-axis, track a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sition where each edge intersects scan-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-3009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 same thing 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ordinate using “remainder” calculations wi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-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l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-3009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we hav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 each edge, can incrementally calcula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we scan Did something similar with calculating color per pixel... (Gouraud shad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3240" indent="0">
              <a:spcBef>
                <a:spcPts val="8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971640" y="4549680"/>
            <a:ext cx="6324480" cy="27529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3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17524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5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4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Z-Buffer Pro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plicity lends itself well to hardware implementations: 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d by all graphics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s do not have to be compared in any particular order: no presorting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ecessary, big ga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ly consider one polygon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even though occlusion is a global proble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rute force, but it is fas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buffer can be stored w/ an image; allows you to correctly composite multiple images (easy!) w/o having to merge models (hard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eat for incremental addition to a complex sc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VSD algorithms could produce a Z-buffer for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 be used for non-polygonal surfaces, CSGs (intersect, union, difference),           and any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 = 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4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2120" y="17524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3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500"/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660708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Z-Buffer Con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01028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Precision problem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perspective foreshortening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is a compression i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xis caused by perspective foreshortening, which map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values going from 16-24 or even 32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s that are far away from the camera end up having smaller Z-values that are very close to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th information loses precision rapidly, which gi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ordering bugs (artifacts) for distant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-planar polygons (e.g., shadows, reflections) exhibit “z-fighting” – you need to offset the further polygon slightly (can’t have co-planar, yet intersecting polygons in na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oating-point values won’t completely cure this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Can’t do anti-aliasing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quires knowing all polygons involved in a given pi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lated A-buffer algorithm used for anti-ali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648320" y="2362320"/>
                <a:ext cx="7617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4800600" cy="1724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5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1447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76320" y="62485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0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4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500"/>
                                        <p:tgtEl>
                                          <p:spTgt spid="4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6" dur="500"/>
                                        <p:tgtEl>
                                          <p:spTgt spid="4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4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500"/>
                                        <p:tgtEl>
                                          <p:spTgt spid="4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500"/>
                                        <p:tgtEl>
                                          <p:spTgt spid="4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500"/>
                                        <p:tgtEl>
                                          <p:spTgt spid="4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500"/>
                                        <p:tgtEl>
                                          <p:spTgt spid="43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500"/>
                                        <p:tgtEl>
                                          <p:spTgt spid="43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Painter’s Algorithm – Image Precisio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 better way to resolve visibility exactly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reate drawing order, each poly overwriting the previous ones, that guarantees correct visibility at any pixel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ategy is to work back to front; find a way to sort polygons by depth (z), then draw them in tha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 a rough sort of the polygons by the smallest (farthest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coordinate in each poly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-convert the most distant polygon first, then work forward towards the viewpoint (“painters’ algorithm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either do a complete sort and then scan-convert, or we can paint as we go – see 3D depth-sort algorithm by Newell, Newell, and S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aircraft carrier landing in the 1969 GE movie was done using painter’s al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y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2120" y="2286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6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4" dur="indefinite" restart="never" nodeType="tmRoot">
          <p:childTnLst>
            <p:seq>
              <p:cTn id="1795" dur="indefinite" nodeType="mainSeq">
                <p:childTnLst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5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1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500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can-Line Algorithm – </a:t>
            </a: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Image Precision (1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82480" y="1828440"/>
            <a:ext cx="6607440" cy="579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4000"/>
          </a:bodyPr>
          <a:p>
            <a:pPr marL="35964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(Wylie, Romney, Evans and Erdahl)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5964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5964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5964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5964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77240" indent="-298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ach horizontal scan l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nd all intersections with edges of all polygons (ignore horizontal boundari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rt intersections by increasing X and store in Edge Tab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ach intersection on scan-lin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dge intersected is left edg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n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entering polyg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 in-code of poly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termine if polygon is visible, and if so use 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lor (from Polygon Table) up to nex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ersec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dge is a right ed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{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leaving polyg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termine which polygon is visible to right of edg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use its color up to next intersec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spcBef>
                <a:spcPts val="67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2666880" y="2457360"/>
            <a:ext cx="2743200" cy="13795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762120" y="7516800"/>
            <a:ext cx="6553080" cy="15508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762120" y="222876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7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91320" y="746748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1680" y="7467480"/>
            <a:ext cx="2226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ve Edge Tabl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can-Line Algorithm (2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neralization of single polygon scan conversion, with IN flags for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ndles transparency and anti-aliasing w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ybrid algorithm: use single scan-line z-buffer to determine 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rt polygons by scan line like this algorith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 each scan line to a single-line Z-buffer; output colors, then clear the buffer and re-use for the next scan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aves space, but loses good transparency, anti-aliasing qu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tty mu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1199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8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82880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7" dur="indefinite" restart="never" nodeType="tmRoot">
          <p:childTnLst>
            <p:seq>
              <p:cTn id="1828" dur="indefinite" nodeType="mainSeq">
                <p:childTnLst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5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500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500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Object-Precision Algorithm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Historically first approache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berts ’63 - hidden line rem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are each edge with every object - eliminate invisible edges or parts of ed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lexity: worse than O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since each object must be compared with all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imilar approach for hidden surfa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polygon is clipped by the projections of all other polygons in front of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visible surfaces are eliminated and visible sub-polygons are cr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LOW, ugly special cases, polygon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0">
              <a:spcBef>
                <a:spcPts val="601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2209680" y="640080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9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2096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8" dur="indefinite" restart="never" nodeType="tmRoot">
          <p:childTnLst>
            <p:seq>
              <p:cTn id="1859" dur="indefinite" nodeType="mainSeq">
                <p:childTnLst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5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500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6" dur="50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endering Polygons (2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…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but there’s a faster way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umber of polygons is a rea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a typical mesh representation, there are a lot of triangles, and each is an object that has to be considered in our intersection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reduce the number of intersection tests with other VSD algorithms, but only to some exte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ditional hardware polygon pipeline is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s the very efficient Z-buffer one-polygon-at-a-time Visible Surface Determination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s an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a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interpolation) rule (still same lighting equation as ray-tracing) to calculate most pix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3-D Depth-Sort Algorithm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718992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marL="378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(Newell, Newell, and Sancha, based on work by Schumacher)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18640" indent="-31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ndles errors/ambiguities of Z-s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mmary of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 Initially, sort by smallest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. Resolve ambiguit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a) Compare X ex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b) Compare Y ex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c) Is P entirely on one side of Q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d) Is Q entirely on one side of 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e) Compare X-Y projections (Polygon Inters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f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wap or split polyg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. Scan convert back to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5146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6476760" cy="16239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0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3-D Depth-Sort Algorithm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dvantage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st enough for simple sc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irly intu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eat for transparent objects – something z-buffering sometimes fails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Disadvantage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low for even moderately complex sc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rd to implement and de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ts of special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2209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90720" y="6095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1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743200" y="38098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0" dur="indefinite" restart="never" nodeType="tmRoot">
          <p:childTnLst>
            <p:seq>
              <p:cTn id="1891" dur="indefinite" nodeType="mainSeq">
                <p:childTnLst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6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2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500"/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3" dur="500"/>
                                        <p:tgtEl>
                                          <p:spTgt spid="4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500"/>
                                        <p:tgtEl>
                                          <p:spTgt spid="4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9" dur="500"/>
                                        <p:tgtEl>
                                          <p:spTgt spid="4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inary Space Partitioning (1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(Fuchs, Kedem, and Naylor, based on work by Schumacher)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vides spatial subdivision and draw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vide and conqu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38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display any polygon correctly, display all polygons on “far” (relative to viewpoint) side of polygon, then that polygon, then all polygons on polygon’s “near” sid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38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how to display polygons on one side correctly? Choose one polygon and process it recursively!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des off view-independent preprocessing step (extra time and space) for low run-time overhead each time view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 algn="just">
              <a:spcBef>
                <a:spcPts val="1199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295280" y="3048120"/>
            <a:ext cx="5867640" cy="2232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685800" y="251460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2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3" dur="indefinite" restart="never" nodeType="tmRoot">
          <p:childTnLst>
            <p:seq>
              <p:cTn id="1924" dur="indefinite" nodeType="mainSeq">
                <p:childTnLst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9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7" dur="500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4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8" dur="500"/>
                                        <p:tgtEl>
                                          <p:spTgt spid="4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inary Space Partitioning (BSP) Trees (2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form view-independent step once each time scene cha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cursively subdivide environment into a hierarchy of half-spaces by dividing polygons in a half-space by the plane of a selected poly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ild a BSP tree representing this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selected polygon is the root of a sub-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1199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2286000" y="5041800"/>
            <a:ext cx="4114800" cy="34927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893680" y="853452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-0: Initial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3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22096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inary Space Partitioning (BSP) Trees (3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1295280" y="1914480"/>
            <a:ext cx="5562720" cy="29275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57400" y="4876920"/>
            <a:ext cx="63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-1: Choose any polygon (e.g., polygon 3) and subdivide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its plane, splitting polygons when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1295280" y="5638680"/>
            <a:ext cx="5867640" cy="28958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446840" y="868356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-2: Process front sub-tree recurs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4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1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inary Space Partitioning (BSP) Trees (4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6095880" cy="283068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990720" y="5487840"/>
            <a:ext cx="5715000" cy="28688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2192760" y="495288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-3: Process back sub-tree recurs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56200" y="8534520"/>
            <a:ext cx="489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-4: An alternative BSP tree with polygon 5 at the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5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inary Space Partitioning (BSP) Trees (5/5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560" y="4952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lvl="1" marL="818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BSP_displayTree(BSP_tree*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 is not empt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(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viewer is in front of roo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BSP_displayTree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-&gt;backChi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isplayPolygon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-&gt;roo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BSP_displayTree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-&gt;frontChi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BSP_displayTree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-&gt;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rontChi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ignore next line if back-face culling desired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isplayPolygon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-&gt;roo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BSP_displayTree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-&gt;backChi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ctr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 applet : http://symbolcraft.com/graphics/bsp/index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6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144792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228600" y="1523880"/>
            <a:ext cx="38098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 tree view-dependent step for each viewpoint cha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des can be visited in back-to-front order. The far side of a node’s polygon is the side that the viewpoint is not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ry fast! Quake III uses this for occlusion culling and to speed up intersection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0" dur="indefinite" restart="never" nodeType="tmRoot">
          <p:childTnLst>
            <p:seq>
              <p:cTn id="1991" dur="indefinite" nodeType="mainSeq">
                <p:childTnLst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82480" y="60948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Advanced Techniques (1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762012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10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Portal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door spaces are mostly rooms with door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y draw the geometry in the next room if the door is clos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re is a portal (open door or hallway) only draw geometry visible through the 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lly useful as a pre-computation step – geometry visible through a portal remains constant - not too good for outdoor sc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7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371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14400" y="8229600"/>
            <a:ext cx="61722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ture Courtesy: David P. Luebke and Chris Georges, “Simple, Fast Evaluation of Potentially Visible Sets”  htt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//www.cs.virginia.edu/~luebke/publications/portal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152280" y="4618080"/>
            <a:ext cx="3962520" cy="31719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35304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4" dur="indefinite" restart="never" nodeType="tmRoot">
          <p:childTnLst>
            <p:seq>
              <p:cTn id="2035" dur="indefinite" nodeType="mainSeq">
                <p:childTnLst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82480" y="53352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Advanced Techniques (2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7772400" cy="769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0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Occlusion Culling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02080" indent="-3074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big object fills a good portion of the screen, don’t draw geometry that it covers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new graphics cards have support for parts of th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gorith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reate a list of all objects potentially visible in the frustum (per polygon or per sha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ach pair of objects i and j, if i occludes j (i.e. i lies in j’s shadow volume) remove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rrain can be conservatively clipped by clipping against projection of frustum against terrain projected onto ground pla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! Lots of ways to make this fast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org, S., and S. Teller, "Real-Time Occlusion Culling for Models with Large Occluders",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997 Symposium on Interactive 3D Graph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amasutra overview of Occlusion Culling algos: http://www.gamasutra.com/features/19991109/moller_haines_01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d for indoor scenes with lots of small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8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12952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05800" y="4724280"/>
            <a:ext cx="2656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OC – algorithm ignores b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ometry behind the h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34360" y="4724280"/>
            <a:ext cx="3060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out OC – lots of geometry  drawn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is not seen (drawn in b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61722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2" dur="indefinite" restart="never" nodeType="tmRoot">
          <p:childTnLst>
            <p:seq>
              <p:cTn id="2053" dur="indefinite" nodeType="mainSeq">
                <p:childTnLst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Traditional Hardware Pipeline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82480" y="1752480"/>
            <a:ext cx="6607440" cy="718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Polygonal rendering w/ Z-buffer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s approximate actu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-global illumination approximates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ading approximates lighting of each sample point; it’s fast, and it looks good enough for many purposes, e.g., interactive CAD, Sci-Viz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sed on calculation and comparison of z (depth) values per pix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uch faster than solving many implicit surface equations per pixel if doing supersampli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.B. Simplified from actual pip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no texture maps, anti-aliasing, transparen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xel proces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hardware; rest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1337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                    November 10, 2005                               VSD 5/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8120" y="71629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951080" y="8610480"/>
            <a:ext cx="823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 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696132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Hardware Scan Conversion pipeline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840" y="9220320"/>
            <a:ext cx="69894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vd                                  November 5, 2002                                VSD 5/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                                  November 10, 2005                               VSD 6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200400"/>
            <a:ext cx="914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erv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lec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versal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or trave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ene grap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get CT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3200400"/>
            <a:ext cx="914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r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cano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ew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3200400"/>
            <a:ext cx="914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ght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r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ght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ver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igh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el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o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914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erv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ck-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u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3200400"/>
            <a:ext cx="914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erv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ew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ip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3200400"/>
            <a:ext cx="914400" cy="2514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xel dep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Z-buff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3200400"/>
            <a:ext cx="914400" cy="2514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erpo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lor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Gourau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 nor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Pho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9436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59436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59436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 pixel of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74320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ewing: Geometry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ld Coordinates (floating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27432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ndering Pixe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reen Coordinates (integ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aytracing vs. Poly Pipeline (1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Conventional wisdom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 competitor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 pipelines are far faster, but produce images of inferior qualit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 pipelines render in real-time, raytracing only in batch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y has raytracing pipeline traditionally been much slower than polygon pipeli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ops over more samples per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ut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(solving implicit surface equation) harder than comput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/w drawing the many triangles in a tessellated sphere faster than raytracing a single sphere object that projects onto multiple pixel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me complexity for polygon pipeline tends not to explode with finer tessellation (unlike other algorith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#-of-polygon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#-of-pixels/polygon    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timized raytracing is still too expensive for real-time applications (for now).” - a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7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295960" y="7201080"/>
                <a:ext cx="228600" cy="20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aytracing vs. Poly Pipeline (2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Unconventional wisdom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t Hanrahan and Seth Teller: “raytracing WILL be competiti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 pipelines have to consider every object in the view frustum, occluded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s in raytracing pipelines can examine the scene front-to-back and stop at the first cell where there is an 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# polygons in view frustum gets big enough, raytracing becomes the faster of the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big is “big enough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001 paper at Eurographics—Wald &amp; Slusallek, “Interactive Rendering with Coherent Ray Tracing,” in Eurographics 2001—demonstrates interactive frame rates at 2.5 M polygons from a raytracer which outperforms most polygon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8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7238880"/>
            <a:ext cx="1357560" cy="1409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62520" y="7238880"/>
            <a:ext cx="1357200" cy="1409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990720" y="7238880"/>
            <a:ext cx="1357200" cy="1409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486400" y="7238880"/>
            <a:ext cx="1357200" cy="1409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976480" y="8661240"/>
            <a:ext cx="2102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tures from the pa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aytracing vs. Poly Pipeline (3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802880"/>
            <a:ext cx="6858000" cy="7340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 final assessment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399960" indent="-114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are we comparing, anyway? One sample/pixel? How much tessell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114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ipelines always produce different imag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114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other factor: “acceptable” spe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114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 graphics processors are doubling speed every 6 mon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114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neral-purpose processors (which raytracers and the front end of polygon pipelines depend on) are doubling in speed every 18 mon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114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els never as complex as we’d lik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114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once models get huge, other issues surface; i.e., not enough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114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GGRAPH ’96: Pharr &amp; Hanrahan – paper                      dedicated to handling models far bigger than                     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114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GGRAPH ’98: P &amp; H &amp; others – 2 billion tri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114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al software (Large Model Viewing) becoming                       a standard API on top of a rendering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114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use for lots of research in meshes that change                complexity depending on distance (level-of-detail) or       according to the surface complexity (adaptive mesh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114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balance: both will be useful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9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70680" y="594360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22:30:07Z</dcterms:created>
  <dc:creator>Brendon R. Shaw</dc:creator>
  <dc:description/>
  <dc:language>en-US</dc:language>
  <cp:lastModifiedBy>Yee Cheng Chin</cp:lastModifiedBy>
  <dcterms:modified xsi:type="dcterms:W3CDTF">2005-11-10T13:55:33Z</dcterms:modified>
  <cp:revision>212</cp:revision>
  <dc:subject/>
  <dc:title>PowerPoint Presentation</dc:title>
</cp:coreProperties>
</file>