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585468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5550120"/>
            <a:ext cx="585468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316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555012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3160" y="555012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2560" y="254160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62200" y="254160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555012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82560" y="555012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62200" y="5550120"/>
            <a:ext cx="1884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2541600"/>
            <a:ext cx="585468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585468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28569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3160" y="2541600"/>
            <a:ext cx="28569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8305920"/>
            <a:ext cx="632304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3160" y="2541600"/>
            <a:ext cx="28569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555012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28569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316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3160" y="555012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3160" y="2541600"/>
            <a:ext cx="285696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5550120"/>
            <a:ext cx="5854680" cy="274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457200"/>
            <a:ext cx="6323040" cy="334800"/>
            <a:chOff x="304920" y="457200"/>
            <a:chExt cx="6323040" cy="334800"/>
          </a:xfrm>
        </p:grpSpPr>
        <p:sp>
          <p:nvSpPr>
            <p:cNvPr id="1" name=""/>
            <p:cNvSpPr/>
            <p:nvPr/>
          </p:nvSpPr>
          <p:spPr>
            <a:xfrm>
              <a:off x="304920" y="457200"/>
              <a:ext cx="6323040" cy="334800"/>
            </a:xfrm>
            <a:prstGeom prst="roundRect">
              <a:avLst>
                <a:gd name="adj" fmla="val 46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457200"/>
              <a:ext cx="63230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 N T R O D U C T I O N     T O     C O M P U T E R     G R A P H I C S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380880" y="380880"/>
            <a:ext cx="617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38080"/>
            <a:ext cx="617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763120"/>
            <a:ext cx="617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8229600"/>
            <a:ext cx="617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3040" cy="3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02920" y="2541600"/>
            <a:ext cx="585468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8245440"/>
            <a:ext cx="632448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                    September 6, 2005                           Mechanics  1/5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September 6, 2005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Mechanics   2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5715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y van Dam (av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ham Rosser (gros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graduate 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x Rice (acr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l Mehta (nmehta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Shim (s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e Cheng Chin (yech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 Liu (xli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September 6, 2005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Mechanics   3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uniors or higher with CS15-16 or CS17-18 and CS32 or CS36, or the equivalent, with strong software engineering skills (OO design and programming, debugging). CS123 is a (sun)lab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: Sophomores who did well in their intro sequence, consider themselves strong programmers, and are willing to put in some extra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f you don’t know C++, you CAN take this cl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but get ready to invest some time early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mbined CS123 and CS169 ‘C’ minicourse (Wed, Thurs, Fri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S123 ‘C++’ minicourse (Fr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ad the CS123 Java to C++ transition document on the web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ou’ll be assigned a C++ mentor 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ear Algebra (vector and matrix arithmetic, dot and cross product) background is helpful. We will hold a helpsession to review these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you’re not sure whether you should be in the course, or if you have not had CS15-16 or CS017-18 and CS032 or CS36, please stay after class and see Graham or email cs123headtas@cs.brow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6629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o should be taking this cour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3733920" cy="2489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September 6, 2005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Mechanics   4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579096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Bird’s Eye View of the Cour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s covered in CS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3D scen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sellation of curved 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ation (translation, rotation, 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rtual camera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graph tra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 raster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 image transfor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ing and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secting rays with simple sol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ing and shadowing of polygonal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osity for photorealistic ren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rendering (nVidia GeFo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361960" cy="167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4648320" cy="240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425840" y="3581280"/>
            <a:ext cx="144144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33920" y="1523880"/>
            <a:ext cx="2590560" cy="1938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800600" y="624852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819520" y="6477120"/>
            <a:ext cx="1904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54444 -0.25833 E">
                                      <p:cBhvr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4444 -0.39167 E">
                                      <p:cBhvr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0.38889 -0.19167 E">
                                      <p:cBhvr>
                                        <p:cTn id="171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778E-006 L 0.61667 0.33368 E">
                                      <p:cBhvr>
                                        <p:cTn id="207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1000" fill="hold"/>
                                        <p:tgtEl>
                                          <p:spTgt spid="5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55556E-007 L 0.16667 0.24167 E">
                                      <p:cBhvr>
                                        <p:cTn id="21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40741E-006 -3.33333E-006 L 0.15556 0.2 E">
                                      <p:cBhvr>
                                        <p:cTn id="21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8305920"/>
            <a:ext cx="6324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ries van Dam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September 6, 2005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Mechanics   5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5790960" cy="74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andouts and Hand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syllabus (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ment deadlines and lecture topics are subject to changes so you must read the CS123 newsgroup and home page on a daily ba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missive (on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the collaboration policy carefully before you sign because it is a contra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ssignment, Brush: warm-up exercise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paper handin – Thursday, September 8, 10:29AM in the handin bin for CS123 on the second fl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psession – Thursday, September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 handin – Tuesday, September 13, 11:59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osser</cp:lastModifiedBy>
  <dcterms:modified xsi:type="dcterms:W3CDTF">2005-09-06T01:45:09Z</dcterms:modified>
  <cp:revision>5</cp:revision>
  <dc:subject/>
  <dc:title>Andries van Dam                         September 6, 2005                           Mechanics  1/5                       </dc:title>
</cp:coreProperties>
</file>