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44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63244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N T R O D U C T I O N     T O     C O M P U T E R     G R A P H I C 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380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838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1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5560" y="403848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can Conver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5040" y="4572000"/>
            <a:ext cx="38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ges 81 -91 in the textb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-6477120" y="4343400"/>
            <a:ext cx="16497360" cy="15392520"/>
            <a:chOff x="-6477120" y="4343400"/>
            <a:chExt cx="16497360" cy="15392520"/>
          </a:xfrm>
        </p:grpSpPr>
        <p:sp>
          <p:nvSpPr>
            <p:cNvPr id="483" name=""/>
            <p:cNvSpPr/>
            <p:nvPr/>
          </p:nvSpPr>
          <p:spPr>
            <a:xfrm>
              <a:off x="-6477120" y="5029200"/>
              <a:ext cx="14706720" cy="1470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67160" y="5105520"/>
              <a:ext cx="6553080" cy="1234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9880" y="6248520"/>
              <a:ext cx="2286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– 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S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290 – 257 = 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5676840" y="4800600"/>
              <a:ext cx="6553080" cy="1234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76240" y="43434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51040" y="5003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76240" y="46483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0, 1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95560" y="50036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82960" y="60958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66960" y="4724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1, 1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6960" y="579132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1, 1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25880" y="510552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+ 17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2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95560" y="4876920"/>
              <a:ext cx="30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95560" y="5969160"/>
              <a:ext cx="419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62520" y="5334120"/>
              <a:ext cx="1904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S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+ 1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2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00680" y="6553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y – 1 = 2(17) – 1 = 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88840" y="502920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8840" y="5041800"/>
              <a:ext cx="1016280" cy="9018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ould ask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) “I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ose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wo values in equation (*) above differ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lternate Phrasing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516680" y="3447000"/>
            <a:ext cx="4070160" cy="317160"/>
            <a:chOff x="1516680" y="3447000"/>
            <a:chExt cx="4070160" cy="317160"/>
          </a:xfrm>
        </p:grpSpPr>
        <p:sp>
          <p:nvSpPr>
            <p:cNvPr id="504" name=""/>
            <p:cNvSpPr/>
            <p:nvPr/>
          </p:nvSpPr>
          <p:spPr>
            <a:xfrm>
              <a:off x="5465880" y="347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15880" y="347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02320" y="3474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2240" y="3474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0360" y="347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98520" y="3474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96760" y="3474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94880" y="347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15720" y="3474360"/>
              <a:ext cx="16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50040" y="3474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98080" y="3474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5480" y="347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16680" y="3474360"/>
              <a:ext cx="16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85320" y="345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9840" y="345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33040" y="345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71160" y="345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68680" y="3447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22920" y="344700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13160" y="3447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46240" y="3447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64920" y="3447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10600" y="3447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46840" y="3447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66240" y="3447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63120" y="34743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07960" y="34743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92840" y="34743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26120" y="34743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93440" y="34743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10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8229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8763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11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second value, which is always the less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s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its differenc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ess t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lternate Phrasing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828440" y="3551400"/>
            <a:ext cx="3644280" cy="392400"/>
            <a:chOff x="1828440" y="3551400"/>
            <a:chExt cx="3644280" cy="392400"/>
          </a:xfrm>
        </p:grpSpPr>
        <p:sp>
          <p:nvSpPr>
            <p:cNvPr id="541" name=""/>
            <p:cNvSpPr/>
            <p:nvPr/>
          </p:nvSpPr>
          <p:spPr>
            <a:xfrm>
              <a:off x="4262400" y="361152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541760" y="3551400"/>
              <a:ext cx="930960" cy="392400"/>
              <a:chOff x="4541760" y="3551400"/>
              <a:chExt cx="930960" cy="392400"/>
            </a:xfrm>
          </p:grpSpPr>
          <p:sp>
            <p:nvSpPr>
              <p:cNvPr id="543" name=""/>
              <p:cNvSpPr/>
              <p:nvPr/>
            </p:nvSpPr>
            <p:spPr>
              <a:xfrm>
                <a:off x="4557240" y="3760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41760" y="3747960"/>
                <a:ext cx="106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395680" y="3586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289120" y="35863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22560" y="35863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31840" y="35863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54000" y="3551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161320" y="3557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976280" y="358632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828440" y="3557520"/>
              <a:ext cx="2302920" cy="303120"/>
              <a:chOff x="1828440" y="3557520"/>
              <a:chExt cx="2302920" cy="303120"/>
            </a:xfrm>
          </p:grpSpPr>
          <p:sp>
            <p:nvSpPr>
              <p:cNvPr id="553" name=""/>
              <p:cNvSpPr/>
              <p:nvPr/>
            </p:nvSpPr>
            <p:spPr>
              <a:xfrm>
                <a:off x="4054320" y="35859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57400" y="35859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51200" y="3585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23880" y="35859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904840" y="35859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00080" y="3585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01840" y="35859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[(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954240" y="356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01680" y="356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998360" y="356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23040" y="3557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38840" y="35575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38800" y="35575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164320" y="355752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36560" y="358596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85440" y="358596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28440" y="35859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0" name=""/>
          <p:cNvGrpSpPr/>
          <p:nvPr/>
        </p:nvGrpSpPr>
        <p:grpSpPr>
          <a:xfrm>
            <a:off x="2899800" y="2362320"/>
            <a:ext cx="1147320" cy="641160"/>
            <a:chOff x="2899800" y="2362320"/>
            <a:chExt cx="1147320" cy="641160"/>
          </a:xfrm>
        </p:grpSpPr>
        <p:sp>
          <p:nvSpPr>
            <p:cNvPr id="571" name=""/>
            <p:cNvSpPr/>
            <p:nvPr/>
          </p:nvSpPr>
          <p:spPr>
            <a:xfrm>
              <a:off x="3025800" y="2692080"/>
              <a:ext cx="15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70080" y="2530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63520" y="2530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96960" y="2530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06240" y="2530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1280" y="2727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38040" y="2371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35720" y="2501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12640" y="252216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12640" y="272880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12640" y="23623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99800" y="252216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9800" y="272880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99800" y="236232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48880" y="25300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980720" y="6370560"/>
            <a:ext cx="2509200" cy="365400"/>
            <a:chOff x="1980720" y="6370560"/>
            <a:chExt cx="2509200" cy="365400"/>
          </a:xfrm>
        </p:grpSpPr>
        <p:sp>
          <p:nvSpPr>
            <p:cNvPr id="587" name=""/>
            <p:cNvSpPr/>
            <p:nvPr/>
          </p:nvSpPr>
          <p:spPr>
            <a:xfrm>
              <a:off x="3909960" y="6551640"/>
              <a:ext cx="135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38400" y="6553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38400" y="637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60480" y="64119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68320" y="64119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96800" y="64119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80720" y="64119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12880" y="638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81040" y="638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6160" y="638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2040" y="6411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96760" y="64119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64760" y="64119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85360" y="64119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18400" y="6386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37160" y="6386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0520" y="6386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75040" y="6386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22520" y="6386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27240" y="6386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980720" y="5456160"/>
            <a:ext cx="3220560" cy="365400"/>
            <a:chOff x="1980720" y="5456160"/>
            <a:chExt cx="3220560" cy="365400"/>
          </a:xfrm>
        </p:grpSpPr>
        <p:sp>
          <p:nvSpPr>
            <p:cNvPr id="608" name=""/>
            <p:cNvSpPr/>
            <p:nvPr/>
          </p:nvSpPr>
          <p:spPr>
            <a:xfrm>
              <a:off x="4621320" y="5637240"/>
              <a:ext cx="135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7960" y="5638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47960" y="5456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95280" y="5495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76240" y="5495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60480" y="5495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68320" y="5495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96800" y="5495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80720" y="5495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24240" y="546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81040" y="546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46160" y="546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73400" y="54957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11000" y="5495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09440" y="5495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64760" y="5495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85360" y="5495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29400" y="5470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80200" y="5470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22720" y="54705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49840" y="54705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40520" y="5470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75040" y="54705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22520" y="54705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27240" y="54705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980720" y="4541760"/>
            <a:ext cx="2926800" cy="365400"/>
            <a:chOff x="1980720" y="4541760"/>
            <a:chExt cx="2926800" cy="365400"/>
          </a:xfrm>
        </p:grpSpPr>
        <p:sp>
          <p:nvSpPr>
            <p:cNvPr id="634" name=""/>
            <p:cNvSpPr/>
            <p:nvPr/>
          </p:nvSpPr>
          <p:spPr>
            <a:xfrm>
              <a:off x="2630520" y="4721400"/>
              <a:ext cx="135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93720" y="4581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01920" y="4581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20680" y="4581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39800" y="4581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47640" y="4581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76120" y="4581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6520" y="4724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66520" y="454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80720" y="4581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30480" y="455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77960" y="455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24040" y="455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81080" y="4581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18960" y="45813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64680" y="45813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20200" y="45813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37440" y="4556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88160" y="4556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54360" y="45561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02200" y="45561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09800" y="45561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89400" y="4556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7240" y="45561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991160" y="7198200"/>
            <a:ext cx="2928600" cy="668160"/>
            <a:chOff x="1991160" y="7198200"/>
            <a:chExt cx="2928600" cy="668160"/>
          </a:xfrm>
        </p:grpSpPr>
        <p:sp>
          <p:nvSpPr>
            <p:cNvPr id="659" name=""/>
            <p:cNvSpPr/>
            <p:nvPr/>
          </p:nvSpPr>
          <p:spPr>
            <a:xfrm>
              <a:off x="3675960" y="7542720"/>
              <a:ext cx="147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72840" y="7542720"/>
              <a:ext cx="14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48840" y="7378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86640" y="7198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25000" y="7378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1960" y="7576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38720" y="725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6520" y="7576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41840" y="7254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50120" y="7398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49320" y="7398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46120" y="7398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91160" y="7398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02320" y="7398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96240" y="739800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46200" y="739800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70920" y="7371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64480" y="7371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32640" y="739044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2640" y="757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32640" y="7243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81040" y="739044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81040" y="757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81040" y="7243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02520" y="7371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01400" y="7371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19360" y="7371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82680" y="73710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2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di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tance decision is wh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positive or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tance decision is wh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positive or negativ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re      a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is positive only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+     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(except special case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=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aside from ambiguous cases, the two are the sam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lternate Phrasing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486400"/>
                <a:ext cx="20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4975200" y="4800600"/>
                <a:ext cx="20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2" name=""/>
          <p:cNvGrpSpPr/>
          <p:nvPr/>
        </p:nvGrpSpPr>
        <p:grpSpPr>
          <a:xfrm>
            <a:off x="1698840" y="2022480"/>
            <a:ext cx="3373560" cy="738720"/>
            <a:chOff x="1698840" y="2022480"/>
            <a:chExt cx="3373560" cy="738720"/>
          </a:xfrm>
        </p:grpSpPr>
        <p:sp>
          <p:nvSpPr>
            <p:cNvPr id="693" name=""/>
            <p:cNvSpPr/>
            <p:nvPr/>
          </p:nvSpPr>
          <p:spPr>
            <a:xfrm>
              <a:off x="3692520" y="2403720"/>
              <a:ext cx="163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4920" y="2403720"/>
              <a:ext cx="162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89240" y="22215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33800" y="2022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54440" y="22215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28720" y="2439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5480" y="20818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68480" y="2439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63440" y="20818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76320" y="22420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61480" y="2242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15080" y="22420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6720" y="2242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32640" y="22420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79320" y="22420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26320" y="22420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98840" y="2242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86840" y="22122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33600" y="22122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5480" y="2233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75480" y="2440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75480" y="20700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3320" y="2233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3320" y="2440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3320" y="20700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09720" y="22122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54600" y="22122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18560" y="22122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04480" y="22122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780560" y="3817800"/>
            <a:ext cx="3139560" cy="772200"/>
            <a:chOff x="1780560" y="3817800"/>
            <a:chExt cx="3139560" cy="772200"/>
          </a:xfrm>
        </p:grpSpPr>
        <p:sp>
          <p:nvSpPr>
            <p:cNvPr id="723" name=""/>
            <p:cNvSpPr/>
            <p:nvPr/>
          </p:nvSpPr>
          <p:spPr>
            <a:xfrm>
              <a:off x="3920040" y="4215960"/>
              <a:ext cx="17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36960" y="4026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76080" y="38178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040920" y="4026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99960" y="42516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95280" y="3880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60280" y="40456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42560" y="4045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74200" y="40456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55520" y="4045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4600" y="40456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93520" y="40456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89400" y="40456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80560" y="4045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22680" y="4016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17040" y="4038480"/>
              <a:ext cx="9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17040" y="4254480"/>
              <a:ext cx="9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17040" y="3870000"/>
              <a:ext cx="9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59960" y="4038480"/>
              <a:ext cx="9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59960" y="4254480"/>
              <a:ext cx="9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59960" y="3870000"/>
              <a:ext cx="9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33640" y="4016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51880" y="40161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1360" y="40161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54600" y="401616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6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3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should we compute the valu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uccessive poi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 Note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ju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ju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ncremental Computation,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744200" y="2478240"/>
            <a:ext cx="3364560" cy="726480"/>
            <a:chOff x="1744200" y="2478240"/>
            <a:chExt cx="3364560" cy="726480"/>
          </a:xfrm>
        </p:grpSpPr>
        <p:sp>
          <p:nvSpPr>
            <p:cNvPr id="753" name=""/>
            <p:cNvSpPr/>
            <p:nvPr/>
          </p:nvSpPr>
          <p:spPr>
            <a:xfrm>
              <a:off x="4185000" y="2848320"/>
              <a:ext cx="1580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1720" y="267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13320" y="24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69960" y="267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54840" y="28825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50160" y="2535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93640" y="2690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4560" y="2690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751120" y="2690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04800" y="2690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7480" y="269028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32480" y="2690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77640" y="26902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78640" y="26902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56960" y="26902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78440" y="26902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38320" y="26902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44200" y="26902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36880" y="26618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57160" y="2683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57160" y="28843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7160" y="25246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56960" y="2683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56960" y="28843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56960" y="25246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01480" y="26618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61840" y="26618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41640" y="26618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45920" y="26618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323800" y="4724280"/>
            <a:ext cx="2950920" cy="3028320"/>
            <a:chOff x="2323800" y="4724280"/>
            <a:chExt cx="2950920" cy="3028320"/>
          </a:xfrm>
        </p:grpSpPr>
        <p:sp>
          <p:nvSpPr>
            <p:cNvPr id="783" name=""/>
            <p:cNvSpPr/>
            <p:nvPr/>
          </p:nvSpPr>
          <p:spPr>
            <a:xfrm>
              <a:off x="5127840" y="73620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60480" y="73620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76000" y="73620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35280" y="736200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50440" y="73620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77560" y="736200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33120" y="73620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11040" y="6494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38160" y="649476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93360" y="6494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29600" y="6494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09000" y="6494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16880" y="649476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01680" y="6494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26840" y="6494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91040" y="562428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50320" y="562428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65480" y="56242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2240" y="56242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46360" y="56242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71560" y="47566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98680" y="47566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52440" y="47566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90120" y="47566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16880" y="47566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01680" y="475668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26840" y="47566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70320" y="753912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79320" y="5801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43520" y="732924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17200" y="73292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99600" y="732924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05600" y="732924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43960" y="732924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34080" y="64616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96680" y="64616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48320" y="646164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14280" y="559152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320640" y="559152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43960" y="559152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94600" y="47242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48320" y="47242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35800" y="736200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96920" y="736200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3280" y="736200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50120" y="736200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673880" y="6494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0360" y="6494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88880" y="64947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52960" y="6494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43840" y="6494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23800" y="64947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11600" y="56242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26520" y="56242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63360" y="56242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34760" y="47566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69440" y="47566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49400" y="47566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252960" y="47566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43840" y="475668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23800" y="47566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7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7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1219320" y="2438280"/>
            <a:ext cx="4876560" cy="5486400"/>
            <a:chOff x="1219320" y="2438280"/>
            <a:chExt cx="4876560" cy="5486400"/>
          </a:xfrm>
        </p:grpSpPr>
        <p:sp>
          <p:nvSpPr>
            <p:cNvPr id="845" name=""/>
            <p:cNvSpPr/>
            <p:nvPr/>
          </p:nvSpPr>
          <p:spPr>
            <a:xfrm>
              <a:off x="3505320" y="54864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19320" y="67057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87520" y="2590920"/>
              <a:ext cx="2222640" cy="4114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828800" y="5517720"/>
              <a:ext cx="3733920" cy="2156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19320" y="6553080"/>
              <a:ext cx="449568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95280" y="2438280"/>
              <a:ext cx="426744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19720" y="52261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86400" y="5302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638680" y="63752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’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4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ncremental Computation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5715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if we move E, update by adding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f we move SE, update by add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3 –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forward differences of 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gree polynomial were constants and those of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gree polynomial ar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gree polynomials; this “first order forward difference,” like a partial derivative, is one degree lower.  Let’s make use of this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                                  is linear, and hence amenable to incremental computation, vi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5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econd Differences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2890800" y="1752480"/>
            <a:ext cx="1554480" cy="328680"/>
            <a:chOff x="2890800" y="1752480"/>
            <a:chExt cx="1554480" cy="328680"/>
          </a:xfrm>
        </p:grpSpPr>
        <p:sp>
          <p:nvSpPr>
            <p:cNvPr id="861" name=""/>
            <p:cNvSpPr/>
            <p:nvPr/>
          </p:nvSpPr>
          <p:spPr>
            <a:xfrm>
              <a:off x="4324320" y="1778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81880" y="1778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64720" y="177804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41880" y="1778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40280" y="177804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08880" y="19134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79960" y="175248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91440" y="175248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90800" y="17524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11840" y="177804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52040" y="177804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36040" y="177804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1796760" y="3637080"/>
            <a:ext cx="3408840" cy="432360"/>
            <a:chOff x="1796760" y="3637080"/>
            <a:chExt cx="3408840" cy="432360"/>
          </a:xfrm>
        </p:grpSpPr>
        <p:sp>
          <p:nvSpPr>
            <p:cNvPr id="874" name=""/>
            <p:cNvSpPr/>
            <p:nvPr/>
          </p:nvSpPr>
          <p:spPr>
            <a:xfrm>
              <a:off x="5052600" y="3672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50840" y="3672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6800" y="36720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10840" y="3672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98040" y="3672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73120" y="3672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60480" y="36720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39880" y="3672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45600" y="3672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65040" y="3855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99800" y="3855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81520" y="3637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62000" y="36370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79840" y="3637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4080" y="3637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46560" y="36370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96760" y="36370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6120" y="36720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31440" y="36720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99800" y="36720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266200" y="36720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1974600" y="3048120"/>
            <a:ext cx="3053520" cy="432360"/>
            <a:chOff x="1974600" y="3048120"/>
            <a:chExt cx="3053520" cy="432360"/>
          </a:xfrm>
        </p:grpSpPr>
        <p:sp>
          <p:nvSpPr>
            <p:cNvPr id="896" name=""/>
            <p:cNvSpPr/>
            <p:nvPr/>
          </p:nvSpPr>
          <p:spPr>
            <a:xfrm>
              <a:off x="4875120" y="3083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74440" y="30830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90760" y="30830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933360" y="30830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22000" y="30830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37960" y="30830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15920" y="3083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22000" y="30830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9000" y="3267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77640" y="3267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03680" y="30481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85960" y="3048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03440" y="30481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24400" y="30481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974600" y="3048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30080" y="3083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53600" y="3083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77280" y="3083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44040" y="3083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1922400" y="6451560"/>
            <a:ext cx="3412080" cy="406080"/>
            <a:chOff x="1922400" y="6451560"/>
            <a:chExt cx="3412080" cy="406080"/>
          </a:xfrm>
        </p:grpSpPr>
        <p:sp>
          <p:nvSpPr>
            <p:cNvPr id="916" name=""/>
            <p:cNvSpPr/>
            <p:nvPr/>
          </p:nvSpPr>
          <p:spPr>
            <a:xfrm>
              <a:off x="5193720" y="6483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11400" y="6483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41400" y="64832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97320" y="6483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33760" y="6483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12440" y="6483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25360" y="64832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09440" y="6483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39640" y="6483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65840" y="66592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08520" y="66592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38120" y="645156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79720" y="64515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06560" y="64515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70240" y="64515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627280" y="645156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22400" y="64515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73520" y="64832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11440" y="64832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58920" y="64832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54120" y="64832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2116080" y="5951520"/>
            <a:ext cx="3074040" cy="406440"/>
            <a:chOff x="2116080" y="5951520"/>
            <a:chExt cx="3074040" cy="406440"/>
          </a:xfrm>
        </p:grpSpPr>
        <p:sp>
          <p:nvSpPr>
            <p:cNvPr id="938" name=""/>
            <p:cNvSpPr/>
            <p:nvPr/>
          </p:nvSpPr>
          <p:spPr>
            <a:xfrm>
              <a:off x="5049360" y="59832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668840" y="59832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97040" y="59832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52960" y="59832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90840" y="59832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119040" y="598320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03120" y="59832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533680" y="59832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21480" y="61596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02200" y="61596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95200" y="59515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36800" y="59515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62200" y="59515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20960" y="595152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16080" y="59515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30600" y="598320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68880" y="598320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52600" y="598320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9600" y="598320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6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6019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for any step, we can compute new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old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adding an appropriate second  constant increment – we update the update terms as we m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lso true of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previously drawn pixe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in current iteration, we decide between drawing pixel at         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1), using previously compu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drawn the pixel, we must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for use next time; we’ll need to find eith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1) depending on which pixel we ch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require adding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to decide which to draw next, upd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each of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futur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99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econd Differences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9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7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idpoint Eighth Circle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1676520"/>
            <a:ext cx="617220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C (R) /* 1/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urier New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of a circle w/ radius 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 = 0, y =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delta_E, delta_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loat decis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ta_E = 2*x + 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ta_SE = 2(x-y) +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cision = (x+1)*(x+1) + (y + 0.5)*(y + 0.5) –R*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xel(x, 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 y &gt; x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decision &gt; 0) {/* Move e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cision += delta_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ta_E += 2; delta_SE +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/* Move S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cision += delta_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ta_E += 2; delta_SE += 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xel(x, 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8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 flo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test, 3 or 4 additions per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ation can be im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y everything by 4       No Floa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akes the components even, but the sign of the decision variable remains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we gett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ixels whose distance from the circle is less than ½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is “x &lt; y” the right stopping criter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it were an ellip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080" y="59436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666880" y="3962520"/>
            <a:ext cx="1524240" cy="1523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9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19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0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terned prim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gned Elli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integer prim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c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ther Scan Conversion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33920" y="2057400"/>
            <a:ext cx="19810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352680" y="3733920"/>
            <a:ext cx="28195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429000" y="5181480"/>
            <a:ext cx="2666880" cy="546120"/>
          </a:xfrm>
          <a:custGeom>
            <a:avLst/>
            <a:gdLst/>
            <a:ahLst/>
            <a:rect l="l" t="t" r="r" b="b"/>
            <a:pathLst>
              <a:path w="2016" h="552">
                <a:moveTo>
                  <a:pt x="0" y="448"/>
                </a:moveTo>
                <a:cubicBezTo>
                  <a:pt x="228" y="224"/>
                  <a:pt x="456" y="0"/>
                  <a:pt x="672" y="16"/>
                </a:cubicBezTo>
                <a:cubicBezTo>
                  <a:pt x="888" y="32"/>
                  <a:pt x="1072" y="536"/>
                  <a:pt x="1296" y="544"/>
                </a:cubicBezTo>
                <a:cubicBezTo>
                  <a:pt x="1520" y="552"/>
                  <a:pt x="1768" y="308"/>
                  <a:pt x="2016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3886200" y="6019920"/>
            <a:ext cx="1905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9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9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2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5238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sq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el (rou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rou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el (rou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round(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2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ly less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to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el (roun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, rou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can Converting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26080" y="1876320"/>
            <a:ext cx="4312440" cy="3412440"/>
            <a:chOff x="2926080" y="1876320"/>
            <a:chExt cx="4312440" cy="3412440"/>
          </a:xfrm>
        </p:grpSpPr>
        <p:grpSp>
          <p:nvGrpSpPr>
            <p:cNvPr id="52" name=""/>
            <p:cNvGrpSpPr/>
            <p:nvPr/>
          </p:nvGrpSpPr>
          <p:grpSpPr>
            <a:xfrm>
              <a:off x="2926080" y="1965600"/>
              <a:ext cx="3323520" cy="3323160"/>
              <a:chOff x="2926080" y="1965600"/>
              <a:chExt cx="3323520" cy="332316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4452840" y="1965600"/>
                <a:ext cx="0" cy="179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52840" y="3762000"/>
                <a:ext cx="179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4284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3248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2248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1248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90212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99212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212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17140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6140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35140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4104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3104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62104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1068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0068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9068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80320" y="3672720"/>
                <a:ext cx="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54640" y="367056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452840" y="358092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52840" y="349092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52840" y="340092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52840" y="331128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52840" y="322128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52840" y="313128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52840" y="304200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52840" y="295200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52840" y="286200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452840" y="2772360"/>
                <a:ext cx="8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51040" y="2684160"/>
                <a:ext cx="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51040" y="2594520"/>
                <a:ext cx="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51040" y="2504520"/>
                <a:ext cx="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51040" y="2414520"/>
                <a:ext cx="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51040" y="2324880"/>
                <a:ext cx="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51040" y="2234880"/>
                <a:ext cx="8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452840" y="2324880"/>
                <a:ext cx="143748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7840" y="2189880"/>
                <a:ext cx="8964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91080" y="219204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04240" y="219204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81080" y="219204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71080" y="2192040"/>
                <a:ext cx="8928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57480" y="2281680"/>
                <a:ext cx="8928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47120" y="2281680"/>
                <a:ext cx="8964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40720" y="2375280"/>
                <a:ext cx="8928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30360" y="237528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6400" y="245772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06400" y="245772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96400" y="2551320"/>
                <a:ext cx="8928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86040" y="2633400"/>
                <a:ext cx="8964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76040" y="272736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66040" y="2820600"/>
                <a:ext cx="8928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28120" y="3719160"/>
                <a:ext cx="8964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45680" y="3176280"/>
                <a:ext cx="8964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1720" y="3000600"/>
                <a:ext cx="8964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26080" y="2234880"/>
                <a:ext cx="3053520" cy="305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160320" y="3763080"/>
              <a:ext cx="10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17, 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1876320"/>
              <a:ext cx="10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0, 1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97640" y="5915160"/>
            <a:ext cx="4312080" cy="3414240"/>
            <a:chOff x="1097640" y="5915160"/>
            <a:chExt cx="4312080" cy="3414240"/>
          </a:xfrm>
        </p:grpSpPr>
        <p:sp>
          <p:nvSpPr>
            <p:cNvPr id="112" name=""/>
            <p:cNvSpPr/>
            <p:nvPr/>
          </p:nvSpPr>
          <p:spPr>
            <a:xfrm>
              <a:off x="4060800" y="7723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74720" y="623268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24040" y="6005520"/>
              <a:ext cx="0" cy="17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4040" y="7802640"/>
              <a:ext cx="17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1296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0332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404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296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7332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6224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260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332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3188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260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152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0188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224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1160" y="772020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51160" y="771228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624040" y="6364440"/>
              <a:ext cx="75600" cy="1346040"/>
              <a:chOff x="2624040" y="6364440"/>
              <a:chExt cx="75600" cy="1346040"/>
            </a:xfrm>
          </p:grpSpPr>
          <p:sp>
            <p:nvSpPr>
              <p:cNvPr id="132" name=""/>
              <p:cNvSpPr/>
              <p:nvPr/>
            </p:nvSpPr>
            <p:spPr>
              <a:xfrm>
                <a:off x="2627640" y="771048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26560" y="762012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26560" y="753120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26560" y="744084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26560" y="735012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26560" y="726120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26560" y="717084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26560" y="708192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26560" y="699156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26560" y="690264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26560" y="681192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24040" y="672480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24040" y="663444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24040" y="654372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24040" y="645480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24040" y="636444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620800" y="6275520"/>
              <a:ext cx="9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624040" y="6364080"/>
              <a:ext cx="1437840" cy="14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32240" y="7802640"/>
              <a:ext cx="10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17, 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5120" y="5915160"/>
              <a:ext cx="10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0, 1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09760" y="776304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080" y="766764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86000" y="748368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4720" y="739620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9400" y="721548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5440" y="6231240"/>
              <a:ext cx="9000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6880" y="658188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667728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3280" y="676296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38320" y="685800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703440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24360" y="712476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4720" y="631980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05080" y="641052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95440" y="641052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76520" y="649620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2920" y="623412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8320" y="6319800"/>
              <a:ext cx="900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97640" y="6275520"/>
              <a:ext cx="305280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71880" y="7723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0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5627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ed lin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patterned line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can be geometric or cos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metic: Texture applied after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: Pattern subject to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metic patterne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patterne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tterned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01720" y="2776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26160" y="2776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627560" y="239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99720" y="239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701720" y="351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26160" y="351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27560" y="312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99720" y="312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52480" y="2895480"/>
            <a:ext cx="312444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778040" y="3624120"/>
            <a:ext cx="32004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6248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1905120" y="755820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76520" y="7467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76920" y="7467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905120" y="6324480"/>
            <a:ext cx="3009960" cy="6984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4876920" y="6248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9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9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9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1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454120" y="1622520"/>
          <a:ext cx="196560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22520"/>
                    <a:ext cx="19656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"/>
          <p:cNvGraphicFramePr/>
          <p:nvPr/>
        </p:nvGraphicFramePr>
        <p:xfrm>
          <a:off x="3848040" y="5818320"/>
          <a:ext cx="3009960" cy="21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8040" y="5818320"/>
                    <a:ext cx="3009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"/>
          <p:cNvGraphicFramePr/>
          <p:nvPr/>
        </p:nvGraphicFramePr>
        <p:xfrm>
          <a:off x="0" y="5818320"/>
          <a:ext cx="3009960" cy="21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818320"/>
                    <a:ext cx="3009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"/>
          <p:cNvSpPr/>
          <p:nvPr/>
        </p:nvSpPr>
        <p:spPr>
          <a:xfrm>
            <a:off x="457200" y="1143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 Pattern      vs.      Cosmetic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76720" y="2925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7"/>
          <a:stretch/>
        </p:blipFill>
        <p:spPr>
          <a:xfrm>
            <a:off x="2332080" y="3495600"/>
            <a:ext cx="2239920" cy="168588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 flipH="1">
            <a:off x="2895480" y="525780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84520" y="5257800"/>
            <a:ext cx="530280" cy="53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2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 of        and          is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4-fold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do we stop stepping horizontally and switch to vertic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ligned Ellip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2438280" y="6591240"/>
            <a:ext cx="2362320" cy="1257480"/>
            <a:chOff x="2438280" y="6591240"/>
            <a:chExt cx="2362320" cy="1257480"/>
          </a:xfrm>
        </p:grpSpPr>
        <p:sp>
          <p:nvSpPr>
            <p:cNvPr id="1012" name=""/>
            <p:cNvSpPr/>
            <p:nvPr/>
          </p:nvSpPr>
          <p:spPr>
            <a:xfrm>
              <a:off x="2438280" y="6629400"/>
              <a:ext cx="228600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29000" y="6591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81280" y="6591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33920" y="6591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6591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38480" y="6591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91120" y="6743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6743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95680" y="6896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48320" y="7048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708280" y="2398320"/>
            <a:ext cx="1204200" cy="684000"/>
            <a:chOff x="2708280" y="2398320"/>
            <a:chExt cx="1204200" cy="684000"/>
          </a:xfrm>
        </p:grpSpPr>
        <p:sp>
          <p:nvSpPr>
            <p:cNvPr id="1023" name=""/>
            <p:cNvSpPr/>
            <p:nvPr/>
          </p:nvSpPr>
          <p:spPr>
            <a:xfrm>
              <a:off x="2708280" y="2727360"/>
              <a:ext cx="268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14080" y="2727360"/>
              <a:ext cx="280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77480" y="25714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404520" y="274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16040" y="239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98000" y="274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96560" y="239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04320" y="25426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098160" y="254268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284640" y="2761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04080" y="24184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75600" y="27619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88920" y="24184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152080" y="3985200"/>
            <a:ext cx="2157120" cy="399960"/>
            <a:chOff x="2152080" y="3985200"/>
            <a:chExt cx="2157120" cy="399960"/>
          </a:xfrm>
        </p:grpSpPr>
        <p:sp>
          <p:nvSpPr>
            <p:cNvPr id="1037" name=""/>
            <p:cNvSpPr/>
            <p:nvPr/>
          </p:nvSpPr>
          <p:spPr>
            <a:xfrm>
              <a:off x="4218480" y="399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64680" y="399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83280" y="399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101400" y="399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53120" y="399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89600" y="3994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80960" y="4019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822480" y="4019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4760" y="4019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59200" y="4019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28920" y="4019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52080" y="4019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583800" y="39852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6600" y="39852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018600" y="5029200"/>
            <a:ext cx="223200" cy="360720"/>
            <a:chOff x="3018600" y="5029200"/>
            <a:chExt cx="223200" cy="360720"/>
          </a:xfrm>
        </p:grpSpPr>
        <p:sp>
          <p:nvSpPr>
            <p:cNvPr id="1052" name=""/>
            <p:cNvSpPr/>
            <p:nvPr/>
          </p:nvSpPr>
          <p:spPr>
            <a:xfrm>
              <a:off x="3148200" y="5207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18600" y="50292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3935520" y="5029200"/>
            <a:ext cx="298800" cy="371160"/>
            <a:chOff x="3935520" y="5029200"/>
            <a:chExt cx="298800" cy="371160"/>
          </a:xfrm>
        </p:grpSpPr>
        <p:sp>
          <p:nvSpPr>
            <p:cNvPr id="1055" name=""/>
            <p:cNvSpPr/>
            <p:nvPr/>
          </p:nvSpPr>
          <p:spPr>
            <a:xfrm>
              <a:off x="4055400" y="5217480"/>
              <a:ext cx="17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35520" y="50292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0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0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0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3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bsolute value of the slope of the ellipse is more than 1, vi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you check this? At a poi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0, a vect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pendic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level set is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ich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ector points m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Direction Changing Criterion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57400" y="2437920"/>
            <a:ext cx="2819520" cy="1447920"/>
            <a:chOff x="2057400" y="2437920"/>
            <a:chExt cx="2819520" cy="1447920"/>
          </a:xfrm>
        </p:grpSpPr>
        <p:sp>
          <p:nvSpPr>
            <p:cNvPr id="1061" name=""/>
            <p:cNvSpPr/>
            <p:nvPr/>
          </p:nvSpPr>
          <p:spPr>
            <a:xfrm>
              <a:off x="2514600" y="2666880"/>
              <a:ext cx="182880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429000" y="2514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057400" y="320004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57400" y="2437920"/>
              <a:ext cx="1066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 flipV="1">
              <a:off x="3809880" y="2514240"/>
              <a:ext cx="10670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344320" y="5280120"/>
            <a:ext cx="2212560" cy="771480"/>
            <a:chOff x="2344320" y="5280120"/>
            <a:chExt cx="2212560" cy="771480"/>
          </a:xfrm>
        </p:grpSpPr>
        <p:sp>
          <p:nvSpPr>
            <p:cNvPr id="1067" name=""/>
            <p:cNvSpPr/>
            <p:nvPr/>
          </p:nvSpPr>
          <p:spPr>
            <a:xfrm>
              <a:off x="2365920" y="5652360"/>
              <a:ext cx="3438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24320" y="5652360"/>
              <a:ext cx="3438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76960" y="5531400"/>
              <a:ext cx="7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76960" y="5716080"/>
              <a:ext cx="7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476960" y="5280120"/>
              <a:ext cx="7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344320" y="5531400"/>
              <a:ext cx="7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44320" y="5716080"/>
              <a:ext cx="7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344320" y="5280120"/>
              <a:ext cx="79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40600" y="565812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08920" y="528912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483280" y="565812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450160" y="528912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41240" y="5483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88520" y="548388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859920" y="5483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82480" y="54838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029760" y="548388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00800" y="5483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12720" y="54838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66840" y="54838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48960" y="56894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15480" y="53200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55400" y="54838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09880" y="54838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91640" y="56894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57080" y="53200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178360" y="6929280"/>
            <a:ext cx="2665800" cy="745560"/>
            <a:chOff x="2178360" y="6929280"/>
            <a:chExt cx="2665800" cy="745560"/>
          </a:xfrm>
        </p:grpSpPr>
        <p:sp>
          <p:nvSpPr>
            <p:cNvPr id="1094" name=""/>
            <p:cNvSpPr/>
            <p:nvPr/>
          </p:nvSpPr>
          <p:spPr>
            <a:xfrm>
              <a:off x="2178360" y="7301160"/>
              <a:ext cx="351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1640" y="7301160"/>
              <a:ext cx="351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03400" y="7130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42680" y="7130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82040" y="71301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849480" y="7130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19400" y="7130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858760" y="71301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25120" y="7130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17640" y="709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22600" y="730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91640" y="6929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11280" y="70984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00760" y="730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66920" y="6929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11280" y="71301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960000" y="71301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33120" y="73393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01080" y="69613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988000" y="71301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37080" y="71301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11280" y="73393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376360" y="69613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2327400" y="4648320"/>
            <a:ext cx="272160" cy="396360"/>
            <a:chOff x="2327400" y="4648320"/>
            <a:chExt cx="272160" cy="396360"/>
          </a:xfrm>
        </p:grpSpPr>
        <p:sp>
          <p:nvSpPr>
            <p:cNvPr id="1118" name=""/>
            <p:cNvSpPr/>
            <p:nvPr/>
          </p:nvSpPr>
          <p:spPr>
            <a:xfrm>
              <a:off x="2327400" y="4648320"/>
              <a:ext cx="27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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4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ur ca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check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, too, can be computed increment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Direction Changing Criterion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785320" y="1905120"/>
            <a:ext cx="1732680" cy="683280"/>
            <a:chOff x="2785320" y="1905120"/>
            <a:chExt cx="1732680" cy="683280"/>
          </a:xfrm>
        </p:grpSpPr>
        <p:sp>
          <p:nvSpPr>
            <p:cNvPr id="1123" name=""/>
            <p:cNvSpPr/>
            <p:nvPr/>
          </p:nvSpPr>
          <p:spPr>
            <a:xfrm>
              <a:off x="2785320" y="2234160"/>
              <a:ext cx="3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98480" y="20822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51160" y="20822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51040" y="20822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15240" y="20822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09240" y="226800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77560" y="1932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77520" y="2063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18680" y="20822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675960" y="20822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30440" y="208224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210120" y="20822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14560" y="205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905920" y="2239560"/>
              <a:ext cx="142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73880" y="1905120"/>
              <a:ext cx="142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775240" y="3025800"/>
            <a:ext cx="1752480" cy="706680"/>
            <a:chOff x="2775240" y="3025800"/>
            <a:chExt cx="1752480" cy="706680"/>
          </a:xfrm>
        </p:grpSpPr>
        <p:sp>
          <p:nvSpPr>
            <p:cNvPr id="1139" name=""/>
            <p:cNvSpPr/>
            <p:nvPr/>
          </p:nvSpPr>
          <p:spPr>
            <a:xfrm>
              <a:off x="2775240" y="3376080"/>
              <a:ext cx="335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08200" y="32144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150800" y="32144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50320" y="32144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11640" y="32144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99160" y="34120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970360" y="3055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273200" y="319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24800" y="32144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77040" y="3214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428280" y="321444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6160" y="3214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7440" y="318456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96920" y="3382200"/>
              <a:ext cx="142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65960" y="3025800"/>
              <a:ext cx="142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2943360" y="4874040"/>
            <a:ext cx="1618200" cy="349200"/>
            <a:chOff x="2943360" y="4874040"/>
            <a:chExt cx="1618200" cy="349200"/>
          </a:xfrm>
        </p:grpSpPr>
        <p:sp>
          <p:nvSpPr>
            <p:cNvPr id="1155" name=""/>
            <p:cNvSpPr/>
            <p:nvPr/>
          </p:nvSpPr>
          <p:spPr>
            <a:xfrm>
              <a:off x="4426560" y="4902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669480" y="4902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943360" y="4902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16800" y="488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04000" y="488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51600" y="48740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39160" y="48740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47840" y="49028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92960" y="4902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323520" y="49028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076200" y="4902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2983680" y="6093360"/>
            <a:ext cx="1332360" cy="349200"/>
            <a:chOff x="2983680" y="6093360"/>
            <a:chExt cx="1332360" cy="349200"/>
          </a:xfrm>
        </p:grpSpPr>
        <p:sp>
          <p:nvSpPr>
            <p:cNvPr id="1167" name=""/>
            <p:cNvSpPr/>
            <p:nvPr/>
          </p:nvSpPr>
          <p:spPr>
            <a:xfrm>
              <a:off x="4181040" y="6122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79560" y="6102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09320" y="6102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07520" y="60933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39440" y="6093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09160" y="612216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58240" y="6122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27040" y="612216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83680" y="6122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5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43080" y="2514240"/>
            <a:ext cx="636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in ENE octan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E oc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roblem is du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on this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roblems with Aligned Ellip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47920" y="19810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447920" y="22096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47920" y="2438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8288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0574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286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14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743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9718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2004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29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57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86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434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572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29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578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057400" y="2019240"/>
            <a:ext cx="3048120" cy="38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4980960" y="2166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757760" y="2171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219640" y="1947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4529160" y="2400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300560" y="2400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4066560" y="2400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3843360" y="2400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619440" y="2400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914400" y="3886200"/>
          <a:ext cx="52578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86200"/>
                    <a:ext cx="52578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9" name=""/>
          <p:cNvSpPr/>
          <p:nvPr/>
        </p:nvSpPr>
        <p:spPr>
          <a:xfrm>
            <a:off x="1752480" y="45720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6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nteger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 is ha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 are hard,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ing Lin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,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Lin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,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join properly is a goo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metry is 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on – Integer Primitives and General Con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7200" y="4952880"/>
            <a:ext cx="586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hard--the octant-changing test is tougher, the difference computations are tougher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it only if you have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when we get to drawing gray-scale conics, we will find that this task is easier than drawing B/W conics; if we had solved this problem first, life would have been easi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Scan Conversion 2    27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4876920" cy="213660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0" y="1066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Generic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" y="6629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re information and these pictures on p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2-93 of the textb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408120" y="5589000"/>
            <a:ext cx="504720" cy="1056600"/>
            <a:chOff x="3408120" y="5589000"/>
            <a:chExt cx="504720" cy="1056600"/>
          </a:xfrm>
        </p:grpSpPr>
        <p:sp>
          <p:nvSpPr>
            <p:cNvPr id="173" name=""/>
            <p:cNvSpPr/>
            <p:nvPr/>
          </p:nvSpPr>
          <p:spPr>
            <a:xfrm flipH="1" rot="5133000">
              <a:off x="3807360" y="6372720"/>
              <a:ext cx="8748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408120" y="5589000"/>
              <a:ext cx="504720" cy="1056600"/>
              <a:chOff x="3408120" y="5589000"/>
              <a:chExt cx="504720" cy="1056600"/>
            </a:xfrm>
          </p:grpSpPr>
          <p:sp>
            <p:nvSpPr>
              <p:cNvPr id="175" name=""/>
              <p:cNvSpPr/>
              <p:nvPr/>
            </p:nvSpPr>
            <p:spPr>
              <a:xfrm flipH="1" rot="5133000">
                <a:off x="3814560" y="6462000"/>
                <a:ext cx="874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133000">
                <a:off x="3821040" y="6553800"/>
                <a:ext cx="871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5133000">
                <a:off x="3801240" y="6285960"/>
                <a:ext cx="85680" cy="8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5133000">
                <a:off x="3792600" y="6199560"/>
                <a:ext cx="8748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5133000">
                <a:off x="3720240" y="6089400"/>
                <a:ext cx="874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133000">
                <a:off x="3714840" y="6002280"/>
                <a:ext cx="871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133000">
                <a:off x="3614040" y="5919480"/>
                <a:ext cx="874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133000">
                <a:off x="3608280" y="5832720"/>
                <a:ext cx="856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5133000">
                <a:off x="3518640" y="5756040"/>
                <a:ext cx="874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5133000">
                <a:off x="3513960" y="5669280"/>
                <a:ext cx="856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5133000">
                <a:off x="3412800" y="5590440"/>
                <a:ext cx="874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can Converting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523880"/>
            <a:ext cx="5486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3: bett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oint Circle 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ctant generated by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octants generated by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720" y="4724280"/>
            <a:ext cx="4312800" cy="3414240"/>
            <a:chOff x="792720" y="4724280"/>
            <a:chExt cx="4312800" cy="3414240"/>
          </a:xfrm>
        </p:grpSpPr>
        <p:sp>
          <p:nvSpPr>
            <p:cNvPr id="189" name=""/>
            <p:cNvSpPr/>
            <p:nvPr/>
          </p:nvSpPr>
          <p:spPr>
            <a:xfrm>
              <a:off x="4027320" y="6611760"/>
              <a:ext cx="10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17, 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319480" y="4814640"/>
              <a:ext cx="0" cy="17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19480" y="6611760"/>
              <a:ext cx="17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0840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9876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8912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804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6876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5768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4804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3840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732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1804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0660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9732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8768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660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6696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5768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46600" y="652140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20920" y="65199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9480" y="642924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9480" y="634032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19480" y="62499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19480" y="61596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9480" y="60706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19480" y="59799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19480" y="589104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19480" y="580068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9480" y="57117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19480" y="562140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16240" y="553392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54100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16240" y="535320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16240" y="52642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16240" y="517356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6240" y="508464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319480" y="5173200"/>
              <a:ext cx="1438200" cy="14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3760" y="503856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57360" y="5041800"/>
              <a:ext cx="907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70160" y="504180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48080" y="5041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7000" y="5041800"/>
              <a:ext cx="903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22680" y="51307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3040" y="5130720"/>
              <a:ext cx="9036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06640" y="5224320"/>
              <a:ext cx="907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5224320"/>
              <a:ext cx="88920" cy="9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83040" y="53071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73400" y="5307120"/>
              <a:ext cx="889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62320" y="5400720"/>
              <a:ext cx="9036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52680" y="5483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720" y="5084640"/>
              <a:ext cx="305352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0200" y="4724280"/>
              <a:ext cx="10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0, 1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819520" y="466236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oc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5638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c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3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4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4952880"/>
            <a:ext cx="5486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metry: I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a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on the circle, so ar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there’s an 8-way 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keep in mind that there are always issues when rounding points on a circle to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idpoint Circle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906560" y="1829880"/>
            <a:ext cx="3656160" cy="3314520"/>
            <a:chOff x="1906560" y="1829880"/>
            <a:chExt cx="3656160" cy="3314520"/>
          </a:xfrm>
        </p:grpSpPr>
        <p:sp>
          <p:nvSpPr>
            <p:cNvPr id="250" name=""/>
            <p:cNvSpPr/>
            <p:nvPr/>
          </p:nvSpPr>
          <p:spPr>
            <a:xfrm flipV="1">
              <a:off x="3429000" y="1829880"/>
              <a:ext cx="1440" cy="29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7920" y="2233440"/>
              <a:ext cx="2147760" cy="21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6560" y="3314880"/>
              <a:ext cx="29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19440" y="2209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74840" y="2209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4492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32320" y="3517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3676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36760" y="3517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74840" y="4317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2040" y="4317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429000" y="2450880"/>
              <a:ext cx="6094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90840" y="3276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1280" y="2857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1843200"/>
              <a:ext cx="205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24160" y="4738680"/>
              <a:ext cx="2209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-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-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2680" y="326376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5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scan top right 1/8 of circle of radi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tarts a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use another incremental algorithm with a decision variable evaluated at mid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Using the Symme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906560" y="2308320"/>
            <a:ext cx="2817360" cy="2817360"/>
            <a:chOff x="1906560" y="2308320"/>
            <a:chExt cx="2817360" cy="2817360"/>
          </a:xfrm>
        </p:grpSpPr>
        <p:sp>
          <p:nvSpPr>
            <p:cNvPr id="271" name=""/>
            <p:cNvSpPr/>
            <p:nvPr/>
          </p:nvSpPr>
          <p:spPr>
            <a:xfrm flipV="1">
              <a:off x="3350520" y="2308320"/>
              <a:ext cx="1440" cy="28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24160" y="2691000"/>
              <a:ext cx="2038320" cy="203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6560" y="3715560"/>
              <a:ext cx="281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336120" y="2367720"/>
              <a:ext cx="132048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14880" y="3680280"/>
              <a:ext cx="7236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8160" y="3667680"/>
              <a:ext cx="133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29560" y="2706480"/>
              <a:ext cx="2027160" cy="20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6104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610423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09480" y="1600200"/>
            <a:ext cx="4560480" cy="4800240"/>
            <a:chOff x="609480" y="1600200"/>
            <a:chExt cx="4560480" cy="4800240"/>
          </a:xfrm>
        </p:grpSpPr>
        <p:sp>
          <p:nvSpPr>
            <p:cNvPr id="279" name=""/>
            <p:cNvSpPr/>
            <p:nvPr/>
          </p:nvSpPr>
          <p:spPr>
            <a:xfrm>
              <a:off x="268956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2968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6980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0956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49680" y="160668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980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2992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69680" y="1600200"/>
              <a:ext cx="0" cy="9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9520" y="1839960"/>
              <a:ext cx="23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9520" y="2080080"/>
              <a:ext cx="23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69520" y="2320200"/>
              <a:ext cx="23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69600" y="17935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09720" y="1806840"/>
              <a:ext cx="79920" cy="79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16560" y="2046960"/>
              <a:ext cx="79560" cy="79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9240" y="1839960"/>
              <a:ext cx="4240440" cy="424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480" y="2080080"/>
              <a:ext cx="1199880" cy="432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49160" y="2640240"/>
              <a:ext cx="3520800" cy="37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6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R; x =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Pixel(x,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x =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1; (x –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&gt; (y –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 x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decision_var &lt;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move eas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pdate decision_v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move south eas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pdate decision_v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xel(x,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ision_va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be defined momentari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can replace all occurrence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0, 0   and Pixel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x,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with Pixel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sentially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hift of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ketch of Incremental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3440" y="16765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13372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7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 decision variable, i.e., something that is negative if we should move E, positive if we should move SE (or vice vers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line strategy: Use the implicit equation of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) =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zero on the circle, negative inside it, positive out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are at pixe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examin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        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y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in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midpoint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id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we need for Incrementa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8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e are asking is this: “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or negativ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is negative there, this midpoint is inside the circle, s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tic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to the circle is less at 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han a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is positive, the opposite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Decision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152388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 = (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2514240" y="1676520"/>
            <a:ext cx="9372240" cy="9296280"/>
            <a:chOff x="-2514240" y="1676520"/>
            <a:chExt cx="9372240" cy="9296280"/>
          </a:xfrm>
        </p:grpSpPr>
        <p:grpSp>
          <p:nvGrpSpPr>
            <p:cNvPr id="310" name=""/>
            <p:cNvGrpSpPr/>
            <p:nvPr/>
          </p:nvGrpSpPr>
          <p:grpSpPr>
            <a:xfrm>
              <a:off x="2057400" y="1676520"/>
              <a:ext cx="2590920" cy="2057400"/>
              <a:chOff x="2057400" y="1676520"/>
              <a:chExt cx="2590920" cy="2057400"/>
            </a:xfrm>
          </p:grpSpPr>
          <p:sp>
            <p:nvSpPr>
              <p:cNvPr id="311" name=""/>
              <p:cNvSpPr/>
              <p:nvPr/>
            </p:nvSpPr>
            <p:spPr>
              <a:xfrm>
                <a:off x="2590920" y="167652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4800" y="167652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52680" y="167652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7400" y="190512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57400" y="266688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7400" y="342900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476440" y="1797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4680" y="1790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00680" y="1790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4680" y="25588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00680" y="25462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00680" y="332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2286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30481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29040" y="21337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14800" y="21337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289548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71760" y="269892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-2514240" y="1981080"/>
              <a:ext cx="9143280" cy="89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2286000"/>
              <a:ext cx="1371600" cy="42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736280" y="5553720"/>
            <a:ext cx="3752280" cy="656640"/>
            <a:chOff x="1736280" y="5553720"/>
            <a:chExt cx="3752280" cy="656640"/>
          </a:xfrm>
        </p:grpSpPr>
        <p:sp>
          <p:nvSpPr>
            <p:cNvPr id="333" name=""/>
            <p:cNvSpPr/>
            <p:nvPr/>
          </p:nvSpPr>
          <p:spPr>
            <a:xfrm>
              <a:off x="2810880" y="5888880"/>
              <a:ext cx="14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50480" y="5888880"/>
              <a:ext cx="14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7640" y="5728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47120" y="5553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13560" y="5728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14200" y="5920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09160" y="5605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43360" y="57459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43640" y="5745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52680" y="57459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74960" y="5920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71720" y="5605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23160" y="57459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27040" y="5745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77240" y="57459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72560" y="57459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49520" y="57459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34760" y="57459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33280" y="574596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36280" y="57459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50160" y="57207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95280" y="57387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95280" y="5920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5280" y="5596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2040" y="57387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62040" y="5920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62040" y="5596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3800" y="57207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6720" y="57207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16560" y="57207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66560" y="572076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57480" y="57387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7480" y="5920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57480" y="5596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2120" y="57387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32120" y="5920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32120" y="5596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36360" y="57207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9960" y="57207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71400" y="4452840"/>
            <a:ext cx="1221120" cy="639000"/>
            <a:chOff x="2471400" y="4452840"/>
            <a:chExt cx="1221120" cy="639000"/>
          </a:xfrm>
        </p:grpSpPr>
        <p:sp>
          <p:nvSpPr>
            <p:cNvPr id="373" name=""/>
            <p:cNvSpPr/>
            <p:nvPr/>
          </p:nvSpPr>
          <p:spPr>
            <a:xfrm>
              <a:off x="3435480" y="4767120"/>
              <a:ext cx="14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09360" y="4606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09360" y="480204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09360" y="445284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71400" y="460692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71400" y="480204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71400" y="445284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84280" y="45864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43560" y="458640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1320" y="48006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8080" y="4462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93400" y="46134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7280" y="4613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06440" y="461340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6680" y="461340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September 27, 2005              Scan Conversion 2     9/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akes our decision based on vertical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lines, that was ok , 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e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propor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ircles, no longer tr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sk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loser to zero, i.e., which of the two values below is closer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s this the right decision vari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37080" y="3506760"/>
            <a:ext cx="5101920" cy="1385640"/>
            <a:chOff x="937080" y="3506760"/>
            <a:chExt cx="5101920" cy="1385640"/>
          </a:xfrm>
        </p:grpSpPr>
        <p:sp>
          <p:nvSpPr>
            <p:cNvPr id="392" name=""/>
            <p:cNvSpPr/>
            <p:nvPr/>
          </p:nvSpPr>
          <p:spPr>
            <a:xfrm flipV="1">
              <a:off x="3545640" y="3751200"/>
              <a:ext cx="356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640" y="3757680"/>
              <a:ext cx="53280" cy="135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41400" y="3506760"/>
              <a:ext cx="6876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10520" y="3506760"/>
              <a:ext cx="138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448080" y="4732200"/>
              <a:ext cx="360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84080" y="4738680"/>
              <a:ext cx="51480" cy="1350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542400" y="4487760"/>
              <a:ext cx="7020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12960" y="4487760"/>
              <a:ext cx="1918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60080" y="45417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76920" y="4541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98000" y="4541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454176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Cir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26000" y="4541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20120" y="4541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7080" y="4541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23760" y="35607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3560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95560" y="3560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9560" y="356076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Cir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62680" y="3560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56440" y="3560760"/>
              <a:ext cx="130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3760" y="3560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06360" y="45100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19200" y="45100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65880" y="45100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98880" y="45100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2680" y="451008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68280" y="45100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45100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69680" y="35290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64520" y="35290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97520" y="35290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61680" y="352908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58760" y="352908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43920" y="4518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65000" y="4518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07600" y="3538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2560" y="3538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53200" y="4541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33680" y="4541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48400" y="4541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73920" y="4541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55120" y="4541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82080" y="4541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10400" y="4541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01920" y="454176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3480" y="4541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93520" y="454176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76880" y="4541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1320" y="454176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72920" y="3560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52320" y="3560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79280" y="3560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09760" y="356076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00920" y="356076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30200" y="356076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13560" y="3560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8000" y="356076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347840" y="6878520"/>
            <a:ext cx="4321080" cy="388080"/>
            <a:chOff x="1347840" y="6878520"/>
            <a:chExt cx="4321080" cy="388080"/>
          </a:xfrm>
        </p:grpSpPr>
        <p:sp>
          <p:nvSpPr>
            <p:cNvPr id="451" name=""/>
            <p:cNvSpPr/>
            <p:nvPr/>
          </p:nvSpPr>
          <p:spPr>
            <a:xfrm flipV="1">
              <a:off x="1347840" y="7113240"/>
              <a:ext cx="3492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82760" y="7120080"/>
              <a:ext cx="50760" cy="128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440000" y="6878520"/>
              <a:ext cx="666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06600" y="6878520"/>
              <a:ext cx="1342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649680" y="7113240"/>
              <a:ext cx="34920" cy="2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84600" y="7120080"/>
              <a:ext cx="50760" cy="128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741840" y="6878520"/>
              <a:ext cx="666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08440" y="6878520"/>
              <a:ext cx="1860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79640" y="6908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34920" y="6908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60120" y="6908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33080" y="6908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97560" y="6931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80200" y="6931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10040" y="6931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51400" y="6931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35840" y="6931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6480" y="6931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149200" y="6931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34000" y="6931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74640" y="69310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69680" y="68994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34360" y="689940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85360" y="689940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32520" y="689940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83520" y="689940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6040" y="69310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89880" y="69310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71600" y="693108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39160" y="69310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88040" y="693108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9:42:54Z</dcterms:created>
  <dc:creator>Casey Johnson</dc:creator>
  <dc:description/>
  <dc:language>en-US</dc:language>
  <cp:lastModifiedBy>nmehta1</cp:lastModifiedBy>
  <dcterms:modified xsi:type="dcterms:W3CDTF">2005-09-27T15:11:11Z</dcterms:modified>
  <cp:revision>123</cp:revision>
  <dc:subject/>
  <dc:title>Andries van Dam      September 5, 2000        Introduction to Computer Graphics    1/7</dc:title>
</cp:coreProperties>
</file>