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F781-487C-40A3-A982-A3E4F85F3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2027-3F67-48F1-AA85-F4878BD80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6E60-5B4F-4941-B026-636574A83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5BC0-4376-40EA-B9AC-6E379949B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206C-CAB3-48CE-A53C-24E860B98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186E-3F48-4EF6-B613-29D01C30B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9585-1786-4A1D-92E8-22C2DD12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7227-8113-4299-A882-258686FF2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B8DF-0271-4A25-B69D-7E1D87E4C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A502-E68C-44CD-8243-54061A6D0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8CB9-6E4E-420D-B5B6-8DC97C4EC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1BA1-E838-4E0C-9962-0AC19A84B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B787-EBC8-4B33-9558-7211D4C1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Transformation  1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use a shorthand to represent the situation (assuming we can remember order of items and corresponding price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vector for quantities, q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vector for corresponding prices at the stores (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A Non-Geometric Exampl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562720"/>
            <a:ext cx="2133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A (East S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B (Whole Foo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e C (Store 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55627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20  0.93  0.64  1.2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65  0.95  0.75  1.4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0.95  1.10  0.90  3.5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43400" y="3352680"/>
                <a:ext cx="254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5486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calculate for each of the three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0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6) + (0.9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5) + (0.6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) + (1.2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1.2 + 4.65 + 0.64 + 2.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8.8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3.9 + 4.75 + 0.75 + 2.8 =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Co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.7 + 5.5 + 0.9 + 7 = 1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do I p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3960" y="2209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express these sums more compac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talCost vector is determined by row-column multiplication where row = price, column = quantities, i.e. dot product of price row with quantities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t product is the sum of the pairwise multi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ing Matrix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90720" y="2666880"/>
                <a:ext cx="480060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Cos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425600" y="5867280"/>
                <a:ext cx="408456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0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373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addi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ove polygons: just translate vertices (vectors) and then redraw lines between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lengths (isometr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rves angles (confo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2181240"/>
                <a:ext cx="297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990720" y="7543800"/>
            <a:ext cx="495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5800" y="5029200"/>
            <a:ext cx="4876920" cy="2547000"/>
            <a:chOff x="685800" y="5029200"/>
            <a:chExt cx="4876920" cy="2547000"/>
          </a:xfrm>
        </p:grpSpPr>
        <p:grpSp>
          <p:nvGrpSpPr>
            <p:cNvPr id="381" name=""/>
            <p:cNvGrpSpPr/>
            <p:nvPr/>
          </p:nvGrpSpPr>
          <p:grpSpPr>
            <a:xfrm>
              <a:off x="685800" y="5029200"/>
              <a:ext cx="4876920" cy="2547000"/>
              <a:chOff x="685800" y="5029200"/>
              <a:chExt cx="4876920" cy="25470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5800" y="6051240"/>
                <a:ext cx="7779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x =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y =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1447920" y="5029200"/>
                <a:ext cx="4114800" cy="2547000"/>
                <a:chOff x="1447920" y="5029200"/>
                <a:chExt cx="4114800" cy="2547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447920" y="5029200"/>
                  <a:ext cx="3049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58160" y="7238880"/>
                  <a:ext cx="3045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"/>
                <p:cNvGrpSpPr/>
                <p:nvPr/>
              </p:nvGrpSpPr>
              <p:grpSpPr>
                <a:xfrm>
                  <a:off x="1677600" y="5104800"/>
                  <a:ext cx="3656520" cy="2379960"/>
                  <a:chOff x="1677600" y="5104800"/>
                  <a:chExt cx="3656520" cy="237996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1905120" y="5104800"/>
                    <a:ext cx="3429000" cy="2133360"/>
                    <a:chOff x="1905120" y="5104800"/>
                    <a:chExt cx="3429000" cy="213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V="1">
                      <a:off x="1981080" y="5104800"/>
                      <a:ext cx="0" cy="198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2057400" y="7162200"/>
                      <a:ext cx="3276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2860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5909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2004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28954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35053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8098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1148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41972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72428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029200" y="7086240"/>
                      <a:ext cx="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905120" y="6857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905120" y="65527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905120" y="62478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905120" y="59432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905120" y="563832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905120" y="5333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6" name=""/>
                  <p:cNvSpPr/>
                  <p:nvPr/>
                </p:nvSpPr>
                <p:spPr>
                  <a:xfrm>
                    <a:off x="1829880" y="70862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348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677600" y="67053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4393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677600" y="64004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7442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0492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3537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6586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96360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816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573080" y="7238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77640" y="7238520"/>
                    <a:ext cx="34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677600" y="60955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677600" y="579096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677600" y="548604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677600" y="5181120"/>
                    <a:ext cx="2768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3" name=""/>
            <p:cNvSpPr/>
            <p:nvPr/>
          </p:nvSpPr>
          <p:spPr>
            <a:xfrm flipV="1">
              <a:off x="2057400" y="5975280"/>
              <a:ext cx="11430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590920" y="5975280"/>
              <a:ext cx="457200" cy="913680"/>
              <a:chOff x="2590920" y="5975280"/>
              <a:chExt cx="457200" cy="913680"/>
            </a:xfrm>
          </p:grpSpPr>
          <p:sp>
            <p:nvSpPr>
              <p:cNvPr id="425" name=""/>
              <p:cNvSpPr/>
              <p:nvPr/>
            </p:nvSpPr>
            <p:spPr>
              <a:xfrm>
                <a:off x="2590920" y="64321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90920" y="59752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00400" y="5060880"/>
              <a:ext cx="457200" cy="913680"/>
              <a:chOff x="3200400" y="5060880"/>
              <a:chExt cx="457200" cy="9136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00400" y="5517720"/>
                <a:ext cx="4572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00400" y="5060880"/>
                <a:ext cx="457200" cy="45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2057400" y="68896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098880" y="6584760"/>
                  <a:ext cx="2538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895480" y="5441760"/>
                  <a:ext cx="25416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3" name=""/>
          <p:cNvSpPr/>
          <p:nvPr/>
        </p:nvSpPr>
        <p:spPr>
          <a:xfrm>
            <a:off x="54360" y="7875720"/>
            <a:ext cx="67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translation by (0,0), i.e. no transl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52480" y="6477120"/>
            <a:ext cx="457200" cy="914040"/>
            <a:chOff x="1752480" y="6477120"/>
            <a:chExt cx="457200" cy="914040"/>
          </a:xfrm>
        </p:grpSpPr>
        <p:sp>
          <p:nvSpPr>
            <p:cNvPr id="435" name=""/>
            <p:cNvSpPr/>
            <p:nvPr/>
          </p:nvSpPr>
          <p:spPr>
            <a:xfrm>
              <a:off x="1752480" y="696924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52480" y="647712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1111 -0.15 E">
                                      <p:cBhvr>
                                        <p:cTn id="5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12222 -0.05833 E">
                                      <p:cBhvr>
                                        <p:cTn id="540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438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5486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wise scalar multiplication of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l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preserve angles (except when scaling is uni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760" y="990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819520" y="1981080"/>
                <a:ext cx="17524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743200" y="2819520"/>
                <a:ext cx="1295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 flipV="1">
            <a:off x="990720" y="8128800"/>
            <a:ext cx="5003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143000" y="3581280"/>
                <a:ext cx="9144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523880" y="7664400"/>
            <a:ext cx="388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5800" y="5346720"/>
            <a:ext cx="4571280" cy="2408760"/>
            <a:chOff x="685800" y="5346720"/>
            <a:chExt cx="4571280" cy="2408760"/>
          </a:xfrm>
        </p:grpSpPr>
        <p:grpSp>
          <p:nvGrpSpPr>
            <p:cNvPr id="449" name=""/>
            <p:cNvGrpSpPr/>
            <p:nvPr/>
          </p:nvGrpSpPr>
          <p:grpSpPr>
            <a:xfrm>
              <a:off x="1400040" y="5346720"/>
              <a:ext cx="3857040" cy="2408760"/>
              <a:chOff x="1400040" y="5346720"/>
              <a:chExt cx="3857040" cy="240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1400040" y="5346720"/>
                <a:ext cx="2858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71600" y="7418160"/>
                <a:ext cx="285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1615680" y="5417280"/>
                <a:ext cx="3426480" cy="2248560"/>
                <a:chOff x="1615680" y="5417280"/>
                <a:chExt cx="3426480" cy="22485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1828440" y="5417280"/>
                  <a:ext cx="3213720" cy="2000160"/>
                  <a:chOff x="1828440" y="5417280"/>
                  <a:chExt cx="3213720" cy="20001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flipV="1">
                    <a:off x="1899360" y="5417280"/>
                    <a:ext cx="0" cy="18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971000" y="7346160"/>
                    <a:ext cx="307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85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4710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3042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756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32820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613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89952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18536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47084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756680" y="72748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28440" y="7060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828440" y="6774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828440" y="648900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828440" y="620352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828440" y="591768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828440" y="5631840"/>
                    <a:ext cx="142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1758240" y="7274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440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615680" y="6917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329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15680" y="66319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15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0124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186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7256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5840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04388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329720" y="7417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14480" y="741960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15680" y="6346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615680" y="6060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15680" y="5774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615680" y="5488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471760" y="6233400"/>
              <a:ext cx="428400" cy="856800"/>
              <a:chOff x="2471760" y="6233400"/>
              <a:chExt cx="428400" cy="856800"/>
            </a:xfrm>
          </p:grpSpPr>
          <p:sp>
            <p:nvSpPr>
              <p:cNvPr id="490" name=""/>
              <p:cNvSpPr/>
              <p:nvPr/>
            </p:nvSpPr>
            <p:spPr>
              <a:xfrm>
                <a:off x="2471760" y="6661800"/>
                <a:ext cx="42840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71760" y="6233400"/>
                <a:ext cx="428400" cy="428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flipV="1">
              <a:off x="1971360" y="7090560"/>
              <a:ext cx="5000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7960" y="694800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494" name=""/>
            <p:cNvGrpSpPr/>
            <p:nvPr/>
          </p:nvGrpSpPr>
          <p:grpSpPr>
            <a:xfrm>
              <a:off x="3614400" y="5590440"/>
              <a:ext cx="856800" cy="1213920"/>
              <a:chOff x="3614400" y="5590440"/>
              <a:chExt cx="856800" cy="1213920"/>
            </a:xfrm>
          </p:grpSpPr>
          <p:sp>
            <p:nvSpPr>
              <p:cNvPr id="495" name=""/>
              <p:cNvSpPr/>
              <p:nvPr/>
            </p:nvSpPr>
            <p:spPr>
              <a:xfrm>
                <a:off x="3614400" y="6197400"/>
                <a:ext cx="856800" cy="60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14400" y="5590440"/>
                <a:ext cx="856800" cy="60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2920680" y="6948000"/>
                  <a:ext cx="188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3630960" y="6876360"/>
                  <a:ext cx="19764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416480" y="6876360"/>
                  <a:ext cx="19800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85800" y="5947560"/>
                  <a:ext cx="6976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"/>
          <p:cNvGrpSpPr/>
          <p:nvPr/>
        </p:nvGrpSpPr>
        <p:grpSpPr>
          <a:xfrm>
            <a:off x="2438280" y="6172200"/>
            <a:ext cx="457200" cy="914040"/>
            <a:chOff x="2438280" y="6172200"/>
            <a:chExt cx="457200" cy="914040"/>
          </a:xfrm>
        </p:grpSpPr>
        <p:sp>
          <p:nvSpPr>
            <p:cNvPr id="502" name=""/>
            <p:cNvSpPr/>
            <p:nvPr/>
          </p:nvSpPr>
          <p:spPr>
            <a:xfrm>
              <a:off x="2438280" y="666432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617220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65000" y="16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 -0.0125 E">
                                      <p:cBhvr>
                                        <p:cTn id="61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05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 of vectors through an ang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’ =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wh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of is by double angle form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rves lengths and 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house shifts position relative to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143000" y="2743200"/>
                <a:ext cx="177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019320" y="2193840"/>
                <a:ext cx="1752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1066680" y="5029200"/>
            <a:ext cx="3809880" cy="2383200"/>
            <a:chOff x="1066680" y="5029200"/>
            <a:chExt cx="3809880" cy="2383200"/>
          </a:xfrm>
        </p:grpSpPr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2971800" y="5411160"/>
                  <a:ext cx="3762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14" name=""/>
            <p:cNvGrpSpPr/>
            <p:nvPr/>
          </p:nvGrpSpPr>
          <p:grpSpPr>
            <a:xfrm>
              <a:off x="1066680" y="5029200"/>
              <a:ext cx="3809880" cy="2383200"/>
              <a:chOff x="1066680" y="5029200"/>
              <a:chExt cx="3809880" cy="2383200"/>
            </a:xfrm>
          </p:grpSpPr>
          <p:sp>
            <p:nvSpPr>
              <p:cNvPr id="515" name=""/>
              <p:cNvSpPr/>
              <p:nvPr/>
            </p:nvSpPr>
            <p:spPr>
              <a:xfrm>
                <a:off x="1066680" y="5029200"/>
                <a:ext cx="2822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4680" y="7075080"/>
                <a:ext cx="2818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1279440" y="5099400"/>
                <a:ext cx="3385440" cy="2220480"/>
                <a:chOff x="1279440" y="5099400"/>
                <a:chExt cx="3385440" cy="222048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1490040" y="5099400"/>
                  <a:ext cx="3174840" cy="1975320"/>
                  <a:chOff x="1490040" y="5099400"/>
                  <a:chExt cx="3174840" cy="19753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1560240" y="5099400"/>
                    <a:ext cx="0" cy="183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630800" y="7004160"/>
                    <a:ext cx="3034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8424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1250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6892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40696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9718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25368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5359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81852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0040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382640" y="6933960"/>
                    <a:ext cx="0" cy="14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490040" y="672228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490040" y="64400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490040" y="615744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490040" y="587556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490040" y="55933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490040" y="5310720"/>
                    <a:ext cx="140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1420200" y="6932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7028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79440" y="65793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8468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79440" y="629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658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5495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83140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1136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39624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67992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60360" y="70736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242240" y="7073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279440" y="6016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9440" y="57344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79440" y="54507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79440" y="51681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" name=""/>
            <p:cNvGrpSpPr/>
            <p:nvPr/>
          </p:nvGrpSpPr>
          <p:grpSpPr>
            <a:xfrm>
              <a:off x="2689200" y="5905080"/>
              <a:ext cx="423360" cy="846720"/>
              <a:chOff x="2689200" y="5905080"/>
              <a:chExt cx="423360" cy="846720"/>
            </a:xfrm>
          </p:grpSpPr>
          <p:sp>
            <p:nvSpPr>
              <p:cNvPr id="555" name=""/>
              <p:cNvSpPr/>
              <p:nvPr/>
            </p:nvSpPr>
            <p:spPr>
              <a:xfrm>
                <a:off x="2689200" y="6328440"/>
                <a:ext cx="423360" cy="42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689200" y="5905080"/>
                <a:ext cx="423360" cy="423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1630800" y="6751800"/>
              <a:ext cx="105840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629720" y="5118120"/>
              <a:ext cx="935280" cy="1785600"/>
              <a:chOff x="1629720" y="5118120"/>
              <a:chExt cx="935280" cy="17856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676520" y="5118120"/>
                <a:ext cx="888480" cy="906840"/>
                <a:chOff x="1676520" y="5118120"/>
                <a:chExt cx="888480" cy="906840"/>
              </a:xfrm>
            </p:grpSpPr>
            <p:sp>
              <p:nvSpPr>
                <p:cNvPr id="560" name=""/>
                <p:cNvSpPr/>
                <p:nvPr/>
              </p:nvSpPr>
              <p:spPr>
                <a:xfrm rot="19007400">
                  <a:off x="2054160" y="5513760"/>
                  <a:ext cx="423360" cy="423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9007400">
                  <a:off x="1764000" y="5205240"/>
                  <a:ext cx="423360" cy="42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 flipV="1">
                <a:off x="1629720" y="6024960"/>
                <a:ext cx="626760" cy="87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2054160" y="6587280"/>
                  <a:ext cx="1173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>
              <a:off x="1630800" y="6541200"/>
              <a:ext cx="423000" cy="7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96" y="515"/>
                  </a:moveTo>
                  <a:arcTo wR="10800" hR="10800" stAng="-4333721" swAng="4333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96" y="515"/>
                  </a:moveTo>
                  <a:arcTo wR="10800" hR="10800" stAng="-4333721" swAng="43337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5280" y="7848720"/>
            <a:ext cx="65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: A rotation by 0 angle, i.e. no rotation at all, gives us the identity matrix, as it shou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666880" y="5867280"/>
            <a:ext cx="457200" cy="914040"/>
            <a:chOff x="2666880" y="5867280"/>
            <a:chExt cx="457200" cy="914040"/>
          </a:xfrm>
        </p:grpSpPr>
        <p:sp>
          <p:nvSpPr>
            <p:cNvPr id="567" name=""/>
            <p:cNvSpPr/>
            <p:nvPr/>
          </p:nvSpPr>
          <p:spPr>
            <a:xfrm>
              <a:off x="2666880" y="63594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58672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-0.09306 L -0.04977 -0.07604 C -0.04213 -0.0724 -0.03357 -0.06528 -0.02593 -0.05694 C -0.0162 -0.04826 -0.01134 -0.03906 -0.01019 -0.03264 L 3.7037E-007 1.11022E-016 E">
                                      <p:cBhvr>
                                        <p:cTn id="676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678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0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1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340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object is not centered at orig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move it to the origin, then scale and/or rotate, then move i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d like to be able to compose successive transformation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Rotation and Scale are Relative to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47920" y="3998880"/>
          <a:ext cx="365760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98880"/>
                    <a:ext cx="365760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4" name=""/>
          <p:cNvGrpSpPr/>
          <p:nvPr/>
        </p:nvGrpSpPr>
        <p:grpSpPr>
          <a:xfrm>
            <a:off x="3048120" y="4227480"/>
            <a:ext cx="457200" cy="914040"/>
            <a:chOff x="3048120" y="4227480"/>
            <a:chExt cx="457200" cy="914040"/>
          </a:xfrm>
        </p:grpSpPr>
        <p:sp>
          <p:nvSpPr>
            <p:cNvPr id="575" name=""/>
            <p:cNvSpPr/>
            <p:nvPr/>
          </p:nvSpPr>
          <p:spPr>
            <a:xfrm>
              <a:off x="3048120" y="4719600"/>
              <a:ext cx="457200" cy="42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4227480"/>
              <a:ext cx="45720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8889 0.10834 E">
                                      <p:cBhvr>
                                        <p:cTn id="715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1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2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0.1 L 2.22222E-006 -3.33333E-006 E">
                                      <p:cBhvr>
                                        <p:cTn id="724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are expressed (non-homogeneously)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ition is difficult to express, since translation not expressed as a matrix multi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 allow all three to be expressed homogeneously, allowing composition via multiplication by 3x3 mat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is 1 for affine transformations in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236232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236232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v +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’ =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905120" y="5410080"/>
                <a:ext cx="335268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tersection of line determined b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=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an infinite number of points correspond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they constitute the whole lin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What is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809880" y="990720"/>
                <a:ext cx="4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219320" y="2819520"/>
            <a:ext cx="4800600" cy="3690000"/>
            <a:chOff x="1219320" y="2819520"/>
            <a:chExt cx="4800600" cy="3690000"/>
          </a:xfrm>
        </p:grpSpPr>
        <p:sp>
          <p:nvSpPr>
            <p:cNvPr id="588" name=""/>
            <p:cNvSpPr/>
            <p:nvPr/>
          </p:nvSpPr>
          <p:spPr>
            <a:xfrm flipV="1">
              <a:off x="365760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4586400"/>
              <a:ext cx="182880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/w,y/w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82400" y="3695760"/>
              <a:ext cx="10933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x,y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7920" y="6172200"/>
              <a:ext cx="304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15000" y="5334120"/>
              <a:ext cx="304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6880" y="2819520"/>
              <a:ext cx="381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1952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828800" y="548640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819520" y="3200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19320" y="510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285640" y="4267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1219320" y="426672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19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195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743200" y="4571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01920" y="4762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819520" y="51055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124080" y="4762080"/>
              <a:ext cx="241560" cy="33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7720" y="3772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2360" y="4495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40080" y="3352320"/>
              <a:ext cx="1003320" cy="143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5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1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oints written in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, scaling and rotation relative to the origin are expressed homogeneously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2438280" y="2209680"/>
                <a:ext cx="490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3657600" cy="13082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4419360" cy="1755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1752480" y="5334120"/>
            <a:ext cx="3657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6477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construction using assemblies/hierarchy of par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 Sketchpad’s masters and instances; leaves contain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 to rea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s, camera use realistic 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p form 3D “object hypothesis” (James Gib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nesthetic feedback as user manipulates objects or synthetic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tic camera/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ation (from arbitrary to canonical 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Helpful app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 out some of the concepts touched on here by following the links on our webpage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Linear Algebr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w Are Geo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(T,R,S) Us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uter Graph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7480" y="2666880"/>
            <a:ext cx="165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 composed of hierarch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0240" y="2778120"/>
            <a:ext cx="4884480" cy="2317320"/>
            <a:chOff x="750240" y="2778120"/>
            <a:chExt cx="4884480" cy="2317320"/>
          </a:xfrm>
        </p:grpSpPr>
        <p:sp>
          <p:nvSpPr>
            <p:cNvPr id="54" name=""/>
            <p:cNvSpPr/>
            <p:nvPr/>
          </p:nvSpPr>
          <p:spPr>
            <a:xfrm>
              <a:off x="992160" y="4619520"/>
              <a:ext cx="990000" cy="20016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8440" y="3981600"/>
              <a:ext cx="756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582560" y="3219480"/>
              <a:ext cx="609120" cy="60948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25360" y="3067200"/>
              <a:ext cx="761760" cy="9903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353960" y="2914560"/>
              <a:ext cx="304560" cy="3049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 rot="20448000">
              <a:off x="820800" y="3371400"/>
              <a:ext cx="534600" cy="52200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7520" y="304344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57960" y="3006720"/>
              <a:ext cx="107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3908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pp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3440" y="35704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wer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29560" y="43020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8920" y="43020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85280" y="430200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8880" y="407340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nc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0560" y="407340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732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572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590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87680" y="384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954160" y="331128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87680" y="3311640"/>
              <a:ext cx="761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944520" y="3768840"/>
              <a:ext cx="304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9440" y="376884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6960" y="3997440"/>
              <a:ext cx="151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49400" y="3997440"/>
              <a:ext cx="151920" cy="152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82760" y="3997440"/>
              <a:ext cx="15192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11360" y="3997440"/>
              <a:ext cx="151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06440" y="338760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8560" y="3387600"/>
              <a:ext cx="15192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0840" y="3844800"/>
              <a:ext cx="152280" cy="1526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2080" y="3844800"/>
              <a:ext cx="151920" cy="15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411360" y="27781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96800" y="3159000"/>
              <a:ext cx="456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3040" y="4514760"/>
              <a:ext cx="2468160" cy="58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ene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see Sceneview assignm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 the rotatio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colum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 (length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 (dot product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vectors into which X-axis and Y-axis rotate (are 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2 x 2 submatrix r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uni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perpend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e into X-axis and Y-axis (are pre-images of x and y unit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properties of rows and columns preserve lengths and angles of the original geometry. Therefore, this matrix is a “rigid body” trans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Homogeneous 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66680" y="1295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905120" y="2362320"/>
                <a:ext cx="3047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666880" y="32004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6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6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6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[1,3] by [7,9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 [2,3] by 5 in the x direction and 10 in the 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e [2,2] by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the T matrix, can avoid unwanted translation introduced when we scale or rotate an object not centered at origin: translate the object to the origin, perform the scale or rotate, then translate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would you scale the house by 2 in “its” y and rotate it through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: matrix multiplication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e! Hence order matters! (refer to the Transformation Game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lets-&gt;Scenegraph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he Translation Matrix is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for Matrix Com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3720" y="3124080"/>
                <a:ext cx="5927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4" name=""/>
          <p:cNvGrpSpPr/>
          <p:nvPr/>
        </p:nvGrpSpPr>
        <p:grpSpPr>
          <a:xfrm>
            <a:off x="609480" y="3505320"/>
            <a:ext cx="990720" cy="1066680"/>
            <a:chOff x="609480" y="3505320"/>
            <a:chExt cx="990720" cy="1066680"/>
          </a:xfrm>
        </p:grpSpPr>
        <p:sp>
          <p:nvSpPr>
            <p:cNvPr id="635" name=""/>
            <p:cNvSpPr/>
            <p:nvPr/>
          </p:nvSpPr>
          <p:spPr>
            <a:xfrm>
              <a:off x="10756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094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904760" y="3505320"/>
            <a:ext cx="990360" cy="1066680"/>
            <a:chOff x="1904760" y="3505320"/>
            <a:chExt cx="990360" cy="1066680"/>
          </a:xfrm>
        </p:grpSpPr>
        <p:sp>
          <p:nvSpPr>
            <p:cNvPr id="638" name=""/>
            <p:cNvSpPr/>
            <p:nvPr/>
          </p:nvSpPr>
          <p:spPr>
            <a:xfrm>
              <a:off x="23709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19047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352680" y="3505320"/>
            <a:ext cx="990720" cy="1066680"/>
            <a:chOff x="3352680" y="3505320"/>
            <a:chExt cx="990720" cy="1066680"/>
          </a:xfrm>
        </p:grpSpPr>
        <p:sp>
          <p:nvSpPr>
            <p:cNvPr id="641" name=""/>
            <p:cNvSpPr/>
            <p:nvPr/>
          </p:nvSpPr>
          <p:spPr>
            <a:xfrm>
              <a:off x="381888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352680" y="4069800"/>
              <a:ext cx="990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05160" y="3505320"/>
            <a:ext cx="990360" cy="1066680"/>
            <a:chOff x="5105160" y="3505320"/>
            <a:chExt cx="990360" cy="1066680"/>
          </a:xfrm>
        </p:grpSpPr>
        <p:sp>
          <p:nvSpPr>
            <p:cNvPr id="644" name=""/>
            <p:cNvSpPr/>
            <p:nvPr/>
          </p:nvSpPr>
          <p:spPr>
            <a:xfrm>
              <a:off x="5571360" y="3505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105160" y="4069800"/>
              <a:ext cx="99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130400">
            <a:off x="1195560" y="35283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6130400">
            <a:off x="2214720" y="389988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8889600">
            <a:off x="3647880" y="396216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8889600">
            <a:off x="5714640" y="3580920"/>
            <a:ext cx="314280" cy="266760"/>
          </a:xfrm>
          <a:custGeom>
            <a:avLst/>
            <a:gdLst>
              <a:gd name="textAreaLeft" fmla="*/ 0 w 314280"/>
              <a:gd name="textAreaRight" fmla="*/ 314640 w 3142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341360" y="5410080"/>
                <a:ext cx="4525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1" name=""/>
          <p:cNvGrpSpPr/>
          <p:nvPr/>
        </p:nvGrpSpPr>
        <p:grpSpPr>
          <a:xfrm>
            <a:off x="1142640" y="5638320"/>
            <a:ext cx="4800960" cy="1219320"/>
            <a:chOff x="1142640" y="5638320"/>
            <a:chExt cx="4800960" cy="1219320"/>
          </a:xfrm>
        </p:grpSpPr>
        <p:grpSp>
          <p:nvGrpSpPr>
            <p:cNvPr id="652" name=""/>
            <p:cNvGrpSpPr/>
            <p:nvPr/>
          </p:nvGrpSpPr>
          <p:grpSpPr>
            <a:xfrm>
              <a:off x="1142640" y="5790960"/>
              <a:ext cx="990360" cy="1066680"/>
              <a:chOff x="1142640" y="5790960"/>
              <a:chExt cx="990360" cy="10666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142640" y="5790960"/>
                <a:ext cx="990360" cy="1066680"/>
                <a:chOff x="1142640" y="5790960"/>
                <a:chExt cx="990360" cy="10666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160884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1142640" y="6355440"/>
                  <a:ext cx="990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 rot="16200000">
                <a:off x="1821240" y="6021720"/>
                <a:ext cx="223920" cy="19044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609560" y="6229080"/>
                <a:ext cx="22860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819160" y="5638320"/>
              <a:ext cx="990720" cy="1219320"/>
              <a:chOff x="2819160" y="5638320"/>
              <a:chExt cx="990720" cy="12193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2819160" y="5790960"/>
                <a:ext cx="990720" cy="1066680"/>
                <a:chOff x="2819160" y="5790960"/>
                <a:chExt cx="990720" cy="10666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28536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281916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 rot="16200000">
                <a:off x="3387600" y="5762160"/>
                <a:ext cx="461880" cy="214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286080" y="6105240"/>
                <a:ext cx="218880" cy="2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716360" y="5790960"/>
              <a:ext cx="1227240" cy="1066680"/>
              <a:chOff x="4716360" y="5790960"/>
              <a:chExt cx="1227240" cy="106668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4952880" y="5790960"/>
                <a:ext cx="990720" cy="1066680"/>
                <a:chOff x="4952880" y="5790960"/>
                <a:chExt cx="990720" cy="10666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419080" y="579096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4952880" y="6355440"/>
                  <a:ext cx="990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16360" y="5903640"/>
                <a:ext cx="704520" cy="439200"/>
                <a:chOff x="4716360" y="5903640"/>
                <a:chExt cx="704520" cy="439200"/>
              </a:xfrm>
            </p:grpSpPr>
            <p:sp>
              <p:nvSpPr>
                <p:cNvPr id="669" name=""/>
                <p:cNvSpPr/>
                <p:nvPr/>
              </p:nvSpPr>
              <p:spPr>
                <a:xfrm rot="10800000">
                  <a:off x="4716360" y="5903640"/>
                  <a:ext cx="462240" cy="213840"/>
                </a:xfrm>
                <a:custGeom>
                  <a:avLst/>
                  <a:gdLst>
                    <a:gd name="textAreaLeft" fmla="*/ 0 w 462240"/>
                    <a:gd name="textAreaRight" fmla="*/ 462600 w 462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>
                  <a:off x="5182920" y="6123960"/>
                  <a:ext cx="23796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ations are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295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mut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476360" y="2293920"/>
            <a:ext cx="3857400" cy="2409120"/>
            <a:chOff x="1476360" y="2293920"/>
            <a:chExt cx="3857400" cy="2409120"/>
          </a:xfrm>
        </p:grpSpPr>
        <p:sp>
          <p:nvSpPr>
            <p:cNvPr id="675" name=""/>
            <p:cNvSpPr/>
            <p:nvPr/>
          </p:nvSpPr>
          <p:spPr>
            <a:xfrm>
              <a:off x="1476360" y="22939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48280" y="436572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692000" y="2364480"/>
              <a:ext cx="3426840" cy="2248560"/>
              <a:chOff x="1692000" y="2364480"/>
              <a:chExt cx="3426840" cy="224856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1904760" y="2364480"/>
                <a:ext cx="3214080" cy="2000160"/>
                <a:chOff x="1904760" y="2364480"/>
                <a:chExt cx="3214080" cy="2000160"/>
              </a:xfrm>
            </p:grpSpPr>
            <p:sp>
              <p:nvSpPr>
                <p:cNvPr id="679" name=""/>
                <p:cNvSpPr/>
                <p:nvPr/>
              </p:nvSpPr>
              <p:spPr>
                <a:xfrm flipV="1">
                  <a:off x="1975680" y="23644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047320" y="42933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61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547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18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832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04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9000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7584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6168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4752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833360" y="42220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04760" y="4007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904760" y="3722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904760" y="34362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904760" y="3150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904760" y="28648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904760" y="25790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4560" y="4222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120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92000" y="3864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058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92000" y="35791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9172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77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63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4924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3508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2056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06400" y="43650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91160" y="43668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92000" y="32932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92000" y="300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92000" y="27219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92000" y="2435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1752480" y="3505320"/>
            <a:ext cx="428760" cy="856800"/>
            <a:chOff x="1752480" y="3505320"/>
            <a:chExt cx="428760" cy="856800"/>
          </a:xfrm>
        </p:grpSpPr>
        <p:sp>
          <p:nvSpPr>
            <p:cNvPr id="715" name=""/>
            <p:cNvSpPr/>
            <p:nvPr/>
          </p:nvSpPr>
          <p:spPr>
            <a:xfrm>
              <a:off x="1752480" y="3933720"/>
              <a:ext cx="4287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52480" y="3505320"/>
              <a:ext cx="42876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400040" y="5346720"/>
            <a:ext cx="3857400" cy="2408760"/>
            <a:chOff x="1400040" y="5346720"/>
            <a:chExt cx="3857400" cy="2408760"/>
          </a:xfrm>
        </p:grpSpPr>
        <p:sp>
          <p:nvSpPr>
            <p:cNvPr id="718" name=""/>
            <p:cNvSpPr/>
            <p:nvPr/>
          </p:nvSpPr>
          <p:spPr>
            <a:xfrm>
              <a:off x="1400040" y="5346720"/>
              <a:ext cx="285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71960" y="7418160"/>
              <a:ext cx="28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615680" y="5417280"/>
              <a:ext cx="3426840" cy="2248560"/>
              <a:chOff x="1615680" y="5417280"/>
              <a:chExt cx="3426840" cy="2248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828440" y="5417280"/>
                <a:ext cx="3214080" cy="2000160"/>
                <a:chOff x="1828440" y="5417280"/>
                <a:chExt cx="3214080" cy="2000160"/>
              </a:xfrm>
            </p:grpSpPr>
            <p:sp>
              <p:nvSpPr>
                <p:cNvPr id="722" name=""/>
                <p:cNvSpPr/>
                <p:nvPr/>
              </p:nvSpPr>
              <p:spPr>
                <a:xfrm flipV="1">
                  <a:off x="1899360" y="5417280"/>
                  <a:ext cx="0" cy="185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1000" y="7346160"/>
                  <a:ext cx="30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185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471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042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756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328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1368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89952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8536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7120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757040" y="727488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828440" y="7060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828440" y="677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828440" y="6489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28440" y="6203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828440" y="591768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828440" y="5631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"/>
              <p:cNvSpPr/>
              <p:nvPr/>
            </p:nvSpPr>
            <p:spPr>
              <a:xfrm>
                <a:off x="1758240" y="72748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44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15680" y="6917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295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5680" y="663192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1540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01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187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47292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75876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4424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30080" y="74178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614840" y="741960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615680" y="634608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615680" y="606060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615680" y="57747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15680" y="5488560"/>
                <a:ext cx="27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1676520" y="6705720"/>
            <a:ext cx="428400" cy="856800"/>
            <a:chOff x="1676520" y="6705720"/>
            <a:chExt cx="428400" cy="856800"/>
          </a:xfrm>
        </p:grpSpPr>
        <p:sp>
          <p:nvSpPr>
            <p:cNvPr id="758" name=""/>
            <p:cNvSpPr/>
            <p:nvPr/>
          </p:nvSpPr>
          <p:spPr>
            <a:xfrm>
              <a:off x="1676520" y="7134120"/>
              <a:ext cx="428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6705720"/>
              <a:ext cx="428400" cy="428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143000" y="4724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7696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979 L 0.25208 0.01979 E">
                                      <p:cBhvr>
                                        <p:cTn id="94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01979 L 0.24791 -0.02743 C 0.24838 -0.03767 0.24398 -0.05208 0.23912 -0.06684 C 0.23333 -0.0842 0.22778 -0.09739 0.22153 -0.10659 L 0.19421 -0.15 E">
                                      <p:cBhvr>
                                        <p:cTn id="94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4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5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25 0 E">
                                      <p:cBhvr>
                                        <p:cTn id="96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362320" y="3733920"/>
                <a:ext cx="13716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z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362320" y="5638680"/>
                <a:ext cx="15238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8" name=""/>
          <p:cNvGrpSpPr/>
          <p:nvPr/>
        </p:nvGrpSpPr>
        <p:grpSpPr>
          <a:xfrm>
            <a:off x="2819520" y="1828800"/>
            <a:ext cx="1523520" cy="1830960"/>
            <a:chOff x="2819520" y="1828800"/>
            <a:chExt cx="1523520" cy="1830960"/>
          </a:xfrm>
        </p:grpSpPr>
        <p:sp>
          <p:nvSpPr>
            <p:cNvPr id="769" name=""/>
            <p:cNvSpPr/>
            <p:nvPr/>
          </p:nvSpPr>
          <p:spPr>
            <a:xfrm flipV="1">
              <a:off x="3352680" y="2057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268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047760" y="297180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14800" y="281916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76360" y="182880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9520" y="3352680"/>
              <a:ext cx="22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X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3D Basic Transformation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4479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Times New Roman"/>
              </a:rPr>
              <a:t>(right-handed coordinate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05320" y="2057400"/>
                <a:ext cx="21463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505320" y="4419720"/>
                <a:ext cx="21715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505320" y="6600960"/>
                <a:ext cx="22096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609480" y="4114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Y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63244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tion about 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7909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ome uses we’ll be seeing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on: putting sub-objects in their parent’s coordinate system to build a hierarchical sce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ing primitives in their coordinat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volume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arbitrary view volume into canonical view volume along the z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(orthographic and oblique) and perspective proj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Homogeneous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400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 a scene and “skew” it to the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s become parallelograms - x coordinates skew to the right, while y coordinates sta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tween axes becom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aking a deck of cards and pushing top to the side – each card shifts relative to the one below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m… Notice that the base of the house (at y=1) remains horizontal, but shifts to the righ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920" y="1143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184480" y="2362320"/>
                <a:ext cx="16603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ew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733920" y="3781440"/>
                <a:ext cx="217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3" name=""/>
          <p:cNvGrpSpPr/>
          <p:nvPr/>
        </p:nvGrpSpPr>
        <p:grpSpPr>
          <a:xfrm>
            <a:off x="1066680" y="5257800"/>
            <a:ext cx="4114800" cy="2547000"/>
            <a:chOff x="1066680" y="5257800"/>
            <a:chExt cx="4114800" cy="2547000"/>
          </a:xfrm>
        </p:grpSpPr>
        <p:grpSp>
          <p:nvGrpSpPr>
            <p:cNvPr id="794" name=""/>
            <p:cNvGrpSpPr/>
            <p:nvPr/>
          </p:nvGrpSpPr>
          <p:grpSpPr>
            <a:xfrm>
              <a:off x="1066680" y="5257800"/>
              <a:ext cx="4114800" cy="2547000"/>
              <a:chOff x="1066680" y="5257800"/>
              <a:chExt cx="4114800" cy="25470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066680" y="5257800"/>
                <a:ext cx="4114800" cy="2547000"/>
                <a:chOff x="1066680" y="5257800"/>
                <a:chExt cx="4114800" cy="254700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1066680" y="5257800"/>
                  <a:ext cx="4114800" cy="2547000"/>
                  <a:chOff x="1066680" y="5257800"/>
                  <a:chExt cx="4114800" cy="25470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066680" y="5257800"/>
                    <a:ext cx="30492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876920" y="7467480"/>
                    <a:ext cx="3045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1296360" y="5333400"/>
                    <a:ext cx="3656520" cy="2379960"/>
                    <a:chOff x="1296360" y="5333400"/>
                    <a:chExt cx="3656520" cy="2379960"/>
                  </a:xfrm>
                </p:grpSpPr>
                <p:grpSp>
                  <p:nvGrpSpPr>
                    <p:cNvPr id="800" name=""/>
                    <p:cNvGrpSpPr/>
                    <p:nvPr/>
                  </p:nvGrpSpPr>
                  <p:grpSpPr>
                    <a:xfrm>
                      <a:off x="1523880" y="5333400"/>
                      <a:ext cx="3429000" cy="2133360"/>
                      <a:chOff x="1523880" y="5333400"/>
                      <a:chExt cx="3429000" cy="2133360"/>
                    </a:xfrm>
                  </p:grpSpPr>
                  <p:sp>
                    <p:nvSpPr>
                      <p:cNvPr id="801" name=""/>
                      <p:cNvSpPr/>
                      <p:nvPr/>
                    </p:nvSpPr>
                    <p:spPr>
                      <a:xfrm flipV="1">
                        <a:off x="1599840" y="5333400"/>
                        <a:ext cx="0" cy="1981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1676160" y="7390800"/>
                        <a:ext cx="327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19047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22096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28191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25142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1240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34286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37335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403848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434304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4647960" y="7314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1523880" y="7086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1523880" y="67813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5" name=""/>
                      <p:cNvSpPr/>
                      <p:nvPr/>
                    </p:nvSpPr>
                    <p:spPr>
                      <a:xfrm>
                        <a:off x="1523880" y="64764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1523880" y="61718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1523880" y="586692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1523880" y="5562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448640" y="73148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7535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296360" y="69339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20581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296360" y="66290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23630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26679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29725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32774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358236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388692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191840" y="7467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496400" y="7467120"/>
                      <a:ext cx="340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296360" y="63241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1296360" y="601956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1296360" y="571464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296360" y="5409720"/>
                      <a:ext cx="2768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905120" y="6171840"/>
                  <a:ext cx="457200" cy="913680"/>
                  <a:chOff x="1905120" y="6171840"/>
                  <a:chExt cx="457200" cy="91368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1905120" y="6628680"/>
                    <a:ext cx="4572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905120" y="6171840"/>
                    <a:ext cx="457200" cy="456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" name=""/>
                <p:cNvSpPr/>
                <p:nvPr/>
              </p:nvSpPr>
              <p:spPr>
                <a:xfrm>
                  <a:off x="2209680" y="6629040"/>
                  <a:ext cx="914400" cy="456840"/>
                </a:xfrm>
                <a:prstGeom prst="parallelogram">
                  <a:avLst>
                    <a:gd name="adj" fmla="val 1032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2666880" y="6171840"/>
                  <a:ext cx="838440" cy="46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 flipV="1">
                <a:off x="3124080" y="6171480"/>
                <a:ext cx="381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 flipV="1">
              <a:off x="19051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2362320" y="5410080"/>
              <a:ext cx="0" cy="198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051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362320" y="5562000"/>
              <a:ext cx="1828800" cy="1828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133720" y="7213320"/>
                  <a:ext cx="126720" cy="1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1981440" y="7238880"/>
              <a:ext cx="151920" cy="30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470480" y="5930640"/>
                  <a:ext cx="4064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"/>
          <p:cNvSpPr/>
          <p:nvPr/>
        </p:nvSpPr>
        <p:spPr>
          <a:xfrm>
            <a:off x="1295280" y="7924680"/>
            <a:ext cx="439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B: A skew of 0 angle, i.e. no skew at all, gives us the identity matrix, as it shou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3124080" y="5486400"/>
            <a:ext cx="3429000" cy="240192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5486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everything along the line y=1 stays on the line y=1, but is translated to the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distance between points on this line is p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1D homogeneous coordinate translation looks like a 2D skew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kew/Shear/Translate (2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1143000" y="3759120"/>
                <a:ext cx="18302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4263480" y="477504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iginal y-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0292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743200" y="5079960"/>
                <a:ext cx="9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533520" y="5610240"/>
            <a:ext cx="2182680" cy="2133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3"/>
          <a:stretch/>
        </p:blipFill>
        <p:spPr>
          <a:xfrm>
            <a:off x="2819520" y="6027840"/>
            <a:ext cx="97452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2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scenes are typically stored in a directed acyclic graph (DAG)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en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pen Scene Graph (used in the Cav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un’s Java3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X3D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aka VRML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368520"/>
            <a:ext cx="670572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scene graph format (there are hundreds of package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bjects (cubes, sphere, cone, polyhedra etc.) with basic defaults (located at the origin within unit box) stored as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(color, texture map, etc.) and transformations are also nodes in scene graph (labeled edges on slide 2 are an abstrac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2280" y="5334120"/>
            <a:ext cx="670572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your assignments, you will deal with a much simpler scene graph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ttributes of each object will be stored as a component of the object node (no separate attribute nod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will affect its subtree, but not siblings (unlike in X3D, Open Scene Graph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node can only have one chi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leaf nodes are graphical objec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ll internal nodes that are not transform nodes are group no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ine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486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vex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every pair of points in the polygon, the line between them is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8288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23880" y="2514600"/>
            <a:ext cx="1905120" cy="1295280"/>
            <a:chOff x="1523880" y="2514600"/>
            <a:chExt cx="1905120" cy="1295280"/>
          </a:xfrm>
        </p:grpSpPr>
        <p:sp>
          <p:nvSpPr>
            <p:cNvPr id="95" name=""/>
            <p:cNvSpPr/>
            <p:nvPr/>
          </p:nvSpPr>
          <p:spPr>
            <a:xfrm>
              <a:off x="1600200" y="2895480"/>
              <a:ext cx="4572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4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057400" y="259056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259092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33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365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6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2514600"/>
            <a:ext cx="838080" cy="1295280"/>
            <a:chOff x="4419720" y="2514600"/>
            <a:chExt cx="838080" cy="1295280"/>
          </a:xfrm>
        </p:grpSpPr>
        <p:sp>
          <p:nvSpPr>
            <p:cNvPr id="109" name=""/>
            <p:cNvSpPr/>
            <p:nvPr/>
          </p:nvSpPr>
          <p:spPr>
            <a:xfrm>
              <a:off x="44956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3733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18148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800600" y="259056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49532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251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55560" y="5275080"/>
            <a:ext cx="1423440" cy="1370160"/>
            <a:chOff x="4255560" y="5275080"/>
            <a:chExt cx="1423440" cy="1370160"/>
          </a:xfrm>
        </p:grpSpPr>
        <p:sp>
          <p:nvSpPr>
            <p:cNvPr id="120" name=""/>
            <p:cNvSpPr/>
            <p:nvPr/>
          </p:nvSpPr>
          <p:spPr>
            <a:xfrm>
              <a:off x="4876560" y="5727600"/>
              <a:ext cx="44568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4160" y="575316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7880" y="5665680"/>
              <a:ext cx="10260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813200">
              <a:off x="4419360" y="5486040"/>
              <a:ext cx="1095120" cy="947880"/>
            </a:xfrm>
            <a:prstGeom prst="hexagon">
              <a:avLst>
                <a:gd name="adj" fmla="val 28883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21960" y="6107760"/>
            <a:ext cx="2081160" cy="2027160"/>
            <a:chOff x="4521960" y="6107760"/>
            <a:chExt cx="2081160" cy="2027160"/>
          </a:xfrm>
        </p:grpSpPr>
        <p:sp>
          <p:nvSpPr>
            <p:cNvPr id="125" name=""/>
            <p:cNvSpPr/>
            <p:nvPr/>
          </p:nvSpPr>
          <p:spPr>
            <a:xfrm rot="1059600">
              <a:off x="4723920" y="6324480"/>
              <a:ext cx="1676520" cy="1593720"/>
            </a:xfrm>
            <a:prstGeom prst="star5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076000" y="6685920"/>
              <a:ext cx="67536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279000">
              <a:off x="5665680" y="665712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279000">
              <a:off x="5032800" y="6759360"/>
              <a:ext cx="1033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4724280"/>
            <a:ext cx="548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nvex vs. Concave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705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av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t convex: some two points in the polygon are joined by a line not fully contained in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9051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s drawn between ordered points to create more complex form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852720"/>
            <a:ext cx="541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first and last point mak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osed poly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it does not intersect itself,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mple poly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3733560" y="6858000"/>
            <a:ext cx="912600" cy="1155240"/>
            <a:chOff x="3733560" y="6858000"/>
            <a:chExt cx="912600" cy="1155240"/>
          </a:xfrm>
        </p:grpSpPr>
        <p:sp>
          <p:nvSpPr>
            <p:cNvPr id="866" name=""/>
            <p:cNvSpPr/>
            <p:nvPr/>
          </p:nvSpPr>
          <p:spPr>
            <a:xfrm flipV="1">
              <a:off x="397692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76920" y="75873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733560" y="75873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640120" y="6324120"/>
            <a:ext cx="912600" cy="1155960"/>
            <a:chOff x="5640120" y="6324120"/>
            <a:chExt cx="912600" cy="1155960"/>
          </a:xfrm>
        </p:grpSpPr>
        <p:sp>
          <p:nvSpPr>
            <p:cNvPr id="870" name=""/>
            <p:cNvSpPr/>
            <p:nvPr/>
          </p:nvSpPr>
          <p:spPr>
            <a:xfrm flipV="1">
              <a:off x="588348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3480" y="705420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640120" y="705420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38080" y="3276720"/>
            <a:ext cx="912960" cy="1155240"/>
            <a:chOff x="838080" y="3276720"/>
            <a:chExt cx="912960" cy="1155240"/>
          </a:xfrm>
        </p:grpSpPr>
        <p:sp>
          <p:nvSpPr>
            <p:cNvPr id="874" name=""/>
            <p:cNvSpPr/>
            <p:nvPr/>
          </p:nvSpPr>
          <p:spPr>
            <a:xfrm flipV="1">
              <a:off x="1081440" y="32767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81440" y="40060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0060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590560" y="3873600"/>
            <a:ext cx="912600" cy="1155240"/>
            <a:chOff x="2590560" y="3873600"/>
            <a:chExt cx="912600" cy="1155240"/>
          </a:xfrm>
        </p:grpSpPr>
        <p:sp>
          <p:nvSpPr>
            <p:cNvPr id="878" name=""/>
            <p:cNvSpPr/>
            <p:nvPr/>
          </p:nvSpPr>
          <p:spPr>
            <a:xfrm flipV="1">
              <a:off x="2833920" y="38736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33920" y="4602960"/>
              <a:ext cx="6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590560" y="4602960"/>
              <a:ext cx="24300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486400" y="3962520"/>
            <a:ext cx="912960" cy="1155240"/>
            <a:chOff x="5486400" y="3962520"/>
            <a:chExt cx="912960" cy="1155240"/>
          </a:xfrm>
        </p:grpSpPr>
        <p:sp>
          <p:nvSpPr>
            <p:cNvPr id="882" name=""/>
            <p:cNvSpPr/>
            <p:nvPr/>
          </p:nvSpPr>
          <p:spPr>
            <a:xfrm flipV="1">
              <a:off x="5729760" y="396252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29760" y="469188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5486400" y="469188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0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380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Palatino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Palatino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09600" y="2209680"/>
            <a:ext cx="1442880" cy="1904760"/>
            <a:chOff x="309600" y="2209680"/>
            <a:chExt cx="1442880" cy="1904760"/>
          </a:xfrm>
        </p:grpSpPr>
        <p:sp>
          <p:nvSpPr>
            <p:cNvPr id="888" name=""/>
            <p:cNvSpPr/>
            <p:nvPr/>
          </p:nvSpPr>
          <p:spPr>
            <a:xfrm>
              <a:off x="552240" y="3914640"/>
              <a:ext cx="990720" cy="199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28520" y="3276360"/>
              <a:ext cx="76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142640" y="2514240"/>
              <a:ext cx="609840" cy="6098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84720" y="2361960"/>
              <a:ext cx="762120" cy="9907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913320" y="2209680"/>
              <a:ext cx="304920" cy="3045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 rot="20448000">
              <a:off x="380160" y="2665800"/>
              <a:ext cx="534960" cy="5223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752640" y="29415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8384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8200" y="46418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8880" y="708012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73960" y="7080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83800" y="7086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52640" y="65469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c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90360" y="654696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590560" y="4870440"/>
            <a:ext cx="685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276360" y="4870440"/>
            <a:ext cx="2286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339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62520" y="4870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81280" y="3209760"/>
            <a:ext cx="55116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32440" y="3209760"/>
            <a:ext cx="82044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876920" y="487044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29200" y="487044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578484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52680" y="5784840"/>
            <a:ext cx="152640" cy="152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57600" y="578484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5784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9880" y="380376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19720" y="380376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5784840"/>
            <a:ext cx="152280" cy="152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4120" y="5784840"/>
            <a:ext cx="15228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86400" y="4338720"/>
            <a:ext cx="457200" cy="385560"/>
            <a:chOff x="5486400" y="4338720"/>
            <a:chExt cx="457200" cy="385560"/>
          </a:xfrm>
        </p:grpSpPr>
        <p:sp>
          <p:nvSpPr>
            <p:cNvPr id="919" name=""/>
            <p:cNvSpPr/>
            <p:nvPr/>
          </p:nvSpPr>
          <p:spPr>
            <a:xfrm>
              <a:off x="5486400" y="4632480"/>
              <a:ext cx="457200" cy="918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06360" y="4338720"/>
              <a:ext cx="3492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318760" y="4114800"/>
            <a:ext cx="881280" cy="698040"/>
            <a:chOff x="2318760" y="4114800"/>
            <a:chExt cx="881280" cy="698040"/>
          </a:xfrm>
        </p:grpSpPr>
        <p:sp>
          <p:nvSpPr>
            <p:cNvPr id="922" name=""/>
            <p:cNvSpPr/>
            <p:nvPr/>
          </p:nvSpPr>
          <p:spPr>
            <a:xfrm flipH="1">
              <a:off x="2827080" y="4300920"/>
              <a:ext cx="372600" cy="372240"/>
            </a:xfrm>
            <a:prstGeom prst="cube">
              <a:avLst>
                <a:gd name="adj" fmla="val 86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547720" y="4207680"/>
              <a:ext cx="465480" cy="60516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2687400" y="4114800"/>
              <a:ext cx="186120" cy="186120"/>
            </a:xfrm>
            <a:prstGeom prst="cube">
              <a:avLst>
                <a:gd name="adj" fmla="val 2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20448000">
              <a:off x="2361600" y="4393800"/>
              <a:ext cx="326880" cy="318960"/>
            </a:xfrm>
            <a:prstGeom prst="cube">
              <a:avLst>
                <a:gd name="adj" fmla="val 86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H="1">
            <a:off x="3797280" y="7321680"/>
            <a:ext cx="38088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3552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86640" y="7924680"/>
            <a:ext cx="38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Leaves of tree are standard size object prim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69560" y="56386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We transform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12440" y="469260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To make sub-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00440" y="3657600"/>
            <a:ext cx="18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Transform sub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45840" y="2290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To get final 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6720" y="1614600"/>
            <a:ext cx="54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’s look more closely at the Scenegraph from slide 2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1523520" y="4190400"/>
            <a:ext cx="76176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73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739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1370520" y="4302360"/>
            <a:ext cx="152280" cy="145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2" y="1736"/>
                </a:moveTo>
                <a:arcTo wR="10800" hR="10800" stAng="-3423712" swAng="3423712"/>
                <a:lnTo>
                  <a:pt x="10800" y="10800"/>
                </a:lnTo>
                <a:close/>
              </a:path>
              <a:path fill="none" w="21600" h="21600">
                <a:moveTo>
                  <a:pt x="16672" y="1736"/>
                </a:moveTo>
                <a:arcTo wR="10800" hR="10800" stAng="-3423712" swAng="342371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523880" y="3962520"/>
            <a:ext cx="106632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274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2745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57760" y="2666880"/>
            <a:ext cx="9136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523880" y="5971680"/>
            <a:ext cx="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1371600" y="49910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000160" y="3952440"/>
            <a:ext cx="133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2428560" y="2647440"/>
            <a:ext cx="11412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95680" y="6324120"/>
            <a:ext cx="912960" cy="1155960"/>
            <a:chOff x="4495680" y="6324120"/>
            <a:chExt cx="912960" cy="1155960"/>
          </a:xfrm>
        </p:grpSpPr>
        <p:sp>
          <p:nvSpPr>
            <p:cNvPr id="943" name=""/>
            <p:cNvSpPr/>
            <p:nvPr/>
          </p:nvSpPr>
          <p:spPr>
            <a:xfrm flipV="1">
              <a:off x="4739040" y="6324120"/>
              <a:ext cx="0" cy="72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39040" y="705420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495680" y="705420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4591080" y="6788160"/>
            <a:ext cx="285840" cy="380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743200" y="6858000"/>
            <a:ext cx="912960" cy="1155240"/>
            <a:chOff x="2743200" y="6858000"/>
            <a:chExt cx="912960" cy="1155240"/>
          </a:xfrm>
        </p:grpSpPr>
        <p:sp>
          <p:nvSpPr>
            <p:cNvPr id="948" name=""/>
            <p:cNvSpPr/>
            <p:nvPr/>
          </p:nvSpPr>
          <p:spPr>
            <a:xfrm flipV="1">
              <a:off x="29865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865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27432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H="1">
            <a:off x="28058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828800" y="6858000"/>
            <a:ext cx="912960" cy="1155240"/>
            <a:chOff x="1828800" y="6858000"/>
            <a:chExt cx="912960" cy="1155240"/>
          </a:xfrm>
        </p:grpSpPr>
        <p:sp>
          <p:nvSpPr>
            <p:cNvPr id="953" name=""/>
            <p:cNvSpPr/>
            <p:nvPr/>
          </p:nvSpPr>
          <p:spPr>
            <a:xfrm flipV="1">
              <a:off x="2072160" y="6858000"/>
              <a:ext cx="0" cy="7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72160" y="7587360"/>
              <a:ext cx="66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1828800" y="7587360"/>
              <a:ext cx="24336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flipH="1">
            <a:off x="1891440" y="7321680"/>
            <a:ext cx="381240" cy="3808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scene graph below, transformation t0 will affect all objects, but t2 will only affect obj2 and one instance of group3 (which includes an instance of obj3 and obj4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 doesn’t affect obj1, other instance of grou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if you want to use multiple instances of a sub-tree, such as group3 above, you must define it before it’s u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so that it’s easier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1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Transforms in Scene Graph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533520" y="3162240"/>
            <a:ext cx="5943600" cy="3088440"/>
            <a:chOff x="533520" y="3162240"/>
            <a:chExt cx="5943600" cy="3088440"/>
          </a:xfrm>
        </p:grpSpPr>
        <p:grpSp>
          <p:nvGrpSpPr>
            <p:cNvPr id="961" name=""/>
            <p:cNvGrpSpPr/>
            <p:nvPr/>
          </p:nvGrpSpPr>
          <p:grpSpPr>
            <a:xfrm>
              <a:off x="3809880" y="4686120"/>
              <a:ext cx="2667240" cy="1143000"/>
              <a:chOff x="3809880" y="4686120"/>
              <a:chExt cx="2667240" cy="1143000"/>
            </a:xfrm>
          </p:grpSpPr>
          <p:sp>
            <p:nvSpPr>
              <p:cNvPr id="962" name=""/>
              <p:cNvSpPr/>
              <p:nvPr/>
            </p:nvSpPr>
            <p:spPr>
              <a:xfrm>
                <a:off x="4191120" y="4686120"/>
                <a:ext cx="2286000" cy="10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 nodes (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nsformation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roup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62520" y="5448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9880" y="4686120"/>
                <a:ext cx="2590920" cy="1143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62520" y="514332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962520" y="47624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3048120" y="3162240"/>
              <a:ext cx="2568600" cy="1297440"/>
              <a:chOff x="3048120" y="3162240"/>
              <a:chExt cx="2568600" cy="1297440"/>
            </a:xfrm>
          </p:grpSpPr>
          <p:sp>
            <p:nvSpPr>
              <p:cNvPr id="968" name=""/>
              <p:cNvSpPr/>
              <p:nvPr/>
            </p:nvSpPr>
            <p:spPr>
              <a:xfrm flipH="1">
                <a:off x="320040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962520" y="3238200"/>
                <a:ext cx="8380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886200" y="316224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038480" y="31622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276720" y="4152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30920" y="41526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7600" y="36194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9720" y="361944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26708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05320" y="36194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2428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48120" y="422892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33520" y="3238200"/>
              <a:ext cx="3733560" cy="3012480"/>
              <a:chOff x="533520" y="3238200"/>
              <a:chExt cx="3733560" cy="3012480"/>
            </a:xfrm>
          </p:grpSpPr>
          <p:sp>
            <p:nvSpPr>
              <p:cNvPr id="981" name=""/>
              <p:cNvSpPr/>
              <p:nvPr/>
            </p:nvSpPr>
            <p:spPr>
              <a:xfrm>
                <a:off x="3124080" y="54864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2057040" y="510516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666880" y="5105160"/>
                <a:ext cx="7621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81080" y="4647960"/>
                <a:ext cx="685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143000" y="4647960"/>
                <a:ext cx="3808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600200" y="419076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85800" y="4267080"/>
                <a:ext cx="9144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638360" y="34668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23880" y="331452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23880" y="41148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47920" y="495288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590920" y="50292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52680" y="5943600"/>
                <a:ext cx="228600" cy="228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76520" y="32382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76520" y="3657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76520" y="40384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19320" y="44956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57400" y="44956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2120" y="495288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00200" y="49528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362320" y="54864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43200" y="5029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05320" y="5943600"/>
                <a:ext cx="76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ou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57400" y="5943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97180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209680" y="55242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0512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66680" y="453384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523880" y="3695400"/>
                <a:ext cx="228600" cy="228600"/>
              </a:xfrm>
              <a:prstGeom prst="plus">
                <a:avLst>
                  <a:gd name="adj" fmla="val 25000"/>
                </a:avLst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33520" y="499104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828800" y="598140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9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9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2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transformation nodes contain at least a matrix that handles the transformation; additionally, it may contain individual transformat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 to scene graph hierarchy applet by Dave Karelitz (URL on slid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the final composite transformation matrix (CTM) for an object node, you need to compose all parent transformations during prefix graph 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ct detail of how this is done varies from package to package, so be car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33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1, CTM 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2, CTM = m2*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o3, CTM = m2* m4* 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or a vertex v in o3, its position in the world (root) coordinate system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TM v  = (m2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*m5)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Composing Transformation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cene Graph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6680" y="396252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group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trices of the transform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bjec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15000" y="4419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895480" y="2095560"/>
            <a:ext cx="3149640" cy="3113640"/>
            <a:chOff x="2895480" y="2095560"/>
            <a:chExt cx="3149640" cy="3113640"/>
          </a:xfrm>
        </p:grpSpPr>
        <p:sp>
          <p:nvSpPr>
            <p:cNvPr id="1023" name=""/>
            <p:cNvSpPr/>
            <p:nvPr/>
          </p:nvSpPr>
          <p:spPr>
            <a:xfrm>
              <a:off x="5575320" y="4114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4254480" y="3225960"/>
              <a:ext cx="55872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263400" y="2286000"/>
              <a:ext cx="762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5880" y="2286000"/>
              <a:ext cx="1523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748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46440" y="26035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1440" y="35434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3360" y="35305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95480" y="3086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60640" y="4000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8880" y="4902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00400" y="31240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86400" y="4952880"/>
              <a:ext cx="228600" cy="2286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7960" y="446724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7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3581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4340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05320" y="26668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14640" y="21718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95840" y="311472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48240" y="4019400"/>
              <a:ext cx="228600" cy="228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191120" y="20955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30481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5638680" y="3962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10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10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500"/>
                                        <p:tgtEl>
                                          <p:spTgt spid="10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4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 of all points equidistant from one predetermined point (the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dius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Cartesian grid with center of circle at origin equ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9528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2057400"/>
            <a:ext cx="3200400" cy="2593440"/>
            <a:chOff x="1752480" y="2057400"/>
            <a:chExt cx="3200400" cy="2593440"/>
          </a:xfrm>
        </p:grpSpPr>
        <p:sp>
          <p:nvSpPr>
            <p:cNvPr id="139" name=""/>
            <p:cNvSpPr/>
            <p:nvPr/>
          </p:nvSpPr>
          <p:spPr>
            <a:xfrm>
              <a:off x="1752480" y="2057400"/>
              <a:ext cx="1143000" cy="1067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9880" y="2057400"/>
              <a:ext cx="1066680" cy="1067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560" y="3657600"/>
              <a:ext cx="144792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560" y="3048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qu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4191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81080" y="60199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51440" y="6045120"/>
            <a:ext cx="1143000" cy="1143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77960" y="6248520"/>
            <a:ext cx="393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660920" y="6222600"/>
            <a:ext cx="431640" cy="36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6540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59200" y="6172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2760" y="6553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6210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5240" y="64008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8672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65360" y="6121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73520" y="65912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8320" y="60577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54760" y="6261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7560" y="61977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6600" y="6540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6477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172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484280"/>
            <a:ext cx="4952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pecial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5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ircle as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lly: a regular polygon with &gt; 15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Object Definition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7339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14400" y="2308320"/>
            <a:ext cx="5181480" cy="870120"/>
            <a:chOff x="914400" y="2308320"/>
            <a:chExt cx="5181480" cy="870120"/>
          </a:xfrm>
        </p:grpSpPr>
        <p:sp>
          <p:nvSpPr>
            <p:cNvPr id="173" name=""/>
            <p:cNvSpPr/>
            <p:nvPr/>
          </p:nvSpPr>
          <p:spPr>
            <a:xfrm>
              <a:off x="914400" y="2514600"/>
              <a:ext cx="685800" cy="609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160" y="2438280"/>
              <a:ext cx="685800" cy="6526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600" y="2438280"/>
              <a:ext cx="685800" cy="6098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89800">
              <a:off x="4190400" y="243828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2438280"/>
              <a:ext cx="609480" cy="60984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24382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743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0840" y="4571640"/>
            <a:ext cx="5866200" cy="1907280"/>
            <a:chOff x="600840" y="4571640"/>
            <a:chExt cx="5866200" cy="1907280"/>
          </a:xfrm>
        </p:grpSpPr>
        <p:grpSp>
          <p:nvGrpSpPr>
            <p:cNvPr id="181" name=""/>
            <p:cNvGrpSpPr/>
            <p:nvPr/>
          </p:nvGrpSpPr>
          <p:grpSpPr>
            <a:xfrm>
              <a:off x="600840" y="4571640"/>
              <a:ext cx="2818440" cy="1907280"/>
              <a:chOff x="600840" y="4571640"/>
              <a:chExt cx="2818440" cy="19072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00840" y="4571640"/>
                <a:ext cx="2818440" cy="1907280"/>
                <a:chOff x="600840" y="4571640"/>
                <a:chExt cx="2818440" cy="190728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776160" y="4571640"/>
                  <a:ext cx="2643120" cy="1658160"/>
                  <a:chOff x="776160" y="4571640"/>
                  <a:chExt cx="2643120" cy="1658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V="1">
                    <a:off x="834480" y="4571640"/>
                    <a:ext cx="0" cy="153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93520" y="6170760"/>
                    <a:ext cx="252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0695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3046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7744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53936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095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24424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4793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7144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94912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184200" y="611172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76160" y="59338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76160" y="56970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6160" y="546012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6160" y="522360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76160" y="498636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76160" y="4749480"/>
                    <a:ext cx="11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718200" y="61153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532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00840" y="5815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883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0840" y="5577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42308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581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8932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12796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36304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598120" y="62316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832840" y="6232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067920" y="623016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0840" y="53416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00840" y="51058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0840" y="48715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0840" y="463356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1069920" y="4986360"/>
                <a:ext cx="704880" cy="71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06992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774800" y="5341680"/>
                <a:ext cx="0" cy="8294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4840" y="569700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34840" y="4986360"/>
                <a:ext cx="587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725640" y="4571640"/>
              <a:ext cx="2741400" cy="1903320"/>
              <a:chOff x="3725640" y="4571640"/>
              <a:chExt cx="2741400" cy="19033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725640" y="4571640"/>
                <a:ext cx="2741400" cy="1903320"/>
                <a:chOff x="3725640" y="4571640"/>
                <a:chExt cx="2741400" cy="190332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895560" y="4571640"/>
                  <a:ext cx="2571480" cy="1656720"/>
                  <a:chOff x="3895560" y="4571640"/>
                  <a:chExt cx="2571480" cy="1656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V="1">
                    <a:off x="3952440" y="4571640"/>
                    <a:ext cx="0" cy="153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009680" y="6169320"/>
                    <a:ext cx="2457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10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09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8668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638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095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3236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526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7812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00948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238440" y="6110280"/>
                    <a:ext cx="0" cy="11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895560" y="59328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895560" y="56962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895560" y="54594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895560" y="52228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95560" y="498600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895560" y="4749480"/>
                    <a:ext cx="114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3839760" y="6112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068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25640" y="5814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96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725640" y="557784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525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4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827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113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399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6685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97160" y="622872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5040" y="6227640"/>
                  <a:ext cx="34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25640" y="53388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25640" y="51004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25640" y="487008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25640" y="4633200"/>
                  <a:ext cx="276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V="1">
                <a:off x="41814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553000" y="5340600"/>
                <a:ext cx="0" cy="828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52800" y="569592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2800" y="4986000"/>
                <a:ext cx="1028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81400" y="4986000"/>
                <a:ext cx="1371600" cy="70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762120" y="333360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Aligned) 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ircle scaled along the x or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height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remains 3, while length, 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, changes from 3 t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6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ertices in motion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“Generative object descriptio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e is drawn by tracing path of a point as it moves (one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drawn by tracing vertices of a line as it moves perpendicularly to itself (two 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be drawn by tracing paths of vertices of a square as it moves perpendicularly to itself (three-dimensional ent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 drawn by swinging a point at a fixed length around a center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2D to 3D Object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00400" y="3949560"/>
            <a:ext cx="1434960" cy="1022040"/>
            <a:chOff x="3200400" y="3949560"/>
            <a:chExt cx="1434960" cy="1022040"/>
          </a:xfrm>
        </p:grpSpPr>
        <p:sp>
          <p:nvSpPr>
            <p:cNvPr id="273" name=""/>
            <p:cNvSpPr/>
            <p:nvPr/>
          </p:nvSpPr>
          <p:spPr>
            <a:xfrm flipV="1">
              <a:off x="324468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235400" y="40125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4468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235400" y="46983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00400" y="4209840"/>
              <a:ext cx="76320" cy="761760"/>
              <a:chOff x="3200400" y="4209840"/>
              <a:chExt cx="76320" cy="761760"/>
            </a:xfrm>
          </p:grpSpPr>
          <p:sp>
            <p:nvSpPr>
              <p:cNvPr id="278" name=""/>
              <p:cNvSpPr/>
              <p:nvPr/>
            </p:nvSpPr>
            <p:spPr>
              <a:xfrm>
                <a:off x="323856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00400" y="4209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00400" y="4895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191120" y="4209840"/>
              <a:ext cx="75960" cy="761760"/>
              <a:chOff x="4191120" y="4209840"/>
              <a:chExt cx="75960" cy="761760"/>
            </a:xfrm>
          </p:grpSpPr>
          <p:sp>
            <p:nvSpPr>
              <p:cNvPr id="282" name=""/>
              <p:cNvSpPr/>
              <p:nvPr/>
            </p:nvSpPr>
            <p:spPr>
              <a:xfrm>
                <a:off x="4228920" y="4254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91120" y="4209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4895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244680" y="4241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4680" y="4927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581280" y="3956040"/>
              <a:ext cx="76320" cy="761760"/>
              <a:chOff x="3581280" y="3956040"/>
              <a:chExt cx="76320" cy="761760"/>
            </a:xfrm>
          </p:grpSpPr>
          <p:sp>
            <p:nvSpPr>
              <p:cNvPr id="288" name=""/>
              <p:cNvSpPr/>
              <p:nvPr/>
            </p:nvSpPr>
            <p:spPr>
              <a:xfrm>
                <a:off x="3619440" y="4000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81280" y="3956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81280" y="4641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59400" y="3949560"/>
              <a:ext cx="75960" cy="761760"/>
              <a:chOff x="4559400" y="3949560"/>
              <a:chExt cx="75960" cy="76176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7200" y="399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59400" y="3949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59400" y="463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612960" y="39877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25920" y="46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76240" y="3911760"/>
            <a:ext cx="1612800" cy="75960"/>
            <a:chOff x="876240" y="3911760"/>
            <a:chExt cx="1612800" cy="75960"/>
          </a:xfrm>
        </p:grpSpPr>
        <p:sp>
          <p:nvSpPr>
            <p:cNvPr id="298" name=""/>
            <p:cNvSpPr/>
            <p:nvPr/>
          </p:nvSpPr>
          <p:spPr>
            <a:xfrm>
              <a:off x="914040" y="3949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240" y="3911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12720" y="3911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371600" y="4254480"/>
            <a:ext cx="1168560" cy="774360"/>
            <a:chOff x="1371600" y="4254480"/>
            <a:chExt cx="1168560" cy="774360"/>
          </a:xfrm>
        </p:grpSpPr>
        <p:sp>
          <p:nvSpPr>
            <p:cNvPr id="302" name=""/>
            <p:cNvSpPr/>
            <p:nvPr/>
          </p:nvSpPr>
          <p:spPr>
            <a:xfrm>
              <a:off x="1409760" y="42987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09760" y="4984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371600" y="4254480"/>
              <a:ext cx="76320" cy="761760"/>
              <a:chOff x="1371600" y="4254480"/>
              <a:chExt cx="76320" cy="761760"/>
            </a:xfrm>
          </p:grpSpPr>
          <p:sp>
            <p:nvSpPr>
              <p:cNvPr id="305" name=""/>
              <p:cNvSpPr/>
              <p:nvPr/>
            </p:nvSpPr>
            <p:spPr>
              <a:xfrm>
                <a:off x="1409760" y="42987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71600" y="4254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71600" y="49402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463840" y="4267080"/>
              <a:ext cx="76320" cy="761760"/>
              <a:chOff x="2463840" y="4267080"/>
              <a:chExt cx="76320" cy="761760"/>
            </a:xfrm>
          </p:grpSpPr>
          <p:sp>
            <p:nvSpPr>
              <p:cNvPr id="309" name=""/>
              <p:cNvSpPr/>
              <p:nvPr/>
            </p:nvSpPr>
            <p:spPr>
              <a:xfrm>
                <a:off x="2502000" y="43113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63840" y="42670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63840" y="495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5105520" y="402588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406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38680" y="33526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89440" y="4051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852520" y="4252320"/>
            <a:ext cx="608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s and tri-mes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parametric polynomials, called s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7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838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Building 3D Primi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25601" t="0" r="0" b="0"/>
          <a:stretch/>
        </p:blipFill>
        <p:spPr>
          <a:xfrm>
            <a:off x="2133720" y="3581280"/>
            <a:ext cx="3985920" cy="1873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5857920" cy="1971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0958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52960" y="622296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6019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1905120"/>
            <a:ext cx="990360" cy="91440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435040" y="1752120"/>
            <a:ext cx="1301400" cy="1219320"/>
            <a:chOff x="2435040" y="1752120"/>
            <a:chExt cx="1301400" cy="1219320"/>
          </a:xfrm>
        </p:grpSpPr>
        <p:sp>
          <p:nvSpPr>
            <p:cNvPr id="328" name=""/>
            <p:cNvSpPr/>
            <p:nvPr/>
          </p:nvSpPr>
          <p:spPr>
            <a:xfrm flipH="1" flipV="1">
              <a:off x="2590200" y="2742480"/>
              <a:ext cx="990360" cy="228600"/>
            </a:xfrm>
            <a:prstGeom prst="parallelogram">
              <a:avLst>
                <a:gd name="adj" fmla="val 9787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1905120"/>
              <a:ext cx="761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6222200">
              <a:off x="209484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90920" y="2133720"/>
              <a:ext cx="7617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66880" y="1751760"/>
              <a:ext cx="990720" cy="228600"/>
            </a:xfrm>
            <a:prstGeom prst="parallelogram">
              <a:avLst>
                <a:gd name="adj" fmla="val 9791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16222200">
              <a:off x="3161880" y="2247840"/>
              <a:ext cx="914400" cy="228600"/>
            </a:xfrm>
            <a:prstGeom prst="parallelogram">
              <a:avLst>
                <a:gd name="adj" fmla="val 903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2120" y="205740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79200" y="4020840"/>
            <a:ext cx="1237680" cy="1105200"/>
            <a:chOff x="979200" y="4020840"/>
            <a:chExt cx="1237680" cy="1105200"/>
          </a:xfrm>
        </p:grpSpPr>
        <p:sp>
          <p:nvSpPr>
            <p:cNvPr id="336" name=""/>
            <p:cNvSpPr/>
            <p:nvPr/>
          </p:nvSpPr>
          <p:spPr>
            <a:xfrm rot="3229200">
              <a:off x="1331280" y="4001760"/>
              <a:ext cx="533520" cy="1143000"/>
            </a:xfrm>
            <a:prstGeom prst="rtTriangl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2000" y="4163040"/>
              <a:ext cx="2700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242360" y="4318920"/>
              <a:ext cx="12276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64760" y="4318920"/>
              <a:ext cx="9000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54000" y="6640560"/>
            <a:ext cx="152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undarie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ynomial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8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Coordinate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in 2 space and 3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t product and cross product – definitions and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 and matrix notation and 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 (associativity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mmutati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transpose and inverse – definition, use, and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need to understand these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don’t think you do, go to the linear algebra help session on Wednesda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Useful concepts from Linear Alg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13, 2005                     Transformation   9/3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Let’s Go S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6 apples, 5 cans of soup, 1 box of tissues, and 2 bags of 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s A, B, and C (East Side Market, Whole Foods, and Store 24) have following unit prices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1430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hort Linear Algebra Digression: Vector and Matrix Notation, A non-Geometric Example (1/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960" y="388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94360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t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le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e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5613480"/>
            <a:ext cx="7617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410080"/>
            <a:ext cx="838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can of s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ox of t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0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5410080"/>
            <a:ext cx="9907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bag of 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.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Julian Devlin</dc:creator>
  <dc:description/>
  <dc:language>en-US</dc:language>
  <cp:lastModifiedBy>sshim</cp:lastModifiedBy>
  <dcterms:modified xsi:type="dcterms:W3CDTF">2005-09-12T19:02:44Z</dcterms:modified>
  <cp:revision>272</cp:revision>
  <dc:subject/>
  <dc:title>Andries van Dam      September 5, 2000        Introduction to Computer Graphics    1/7</dc:title>
</cp:coreProperties>
</file>